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979200" y="6591240"/>
            <a:ext cx="30456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686800" y="6616800"/>
            <a:ext cx="159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© ANZOD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685800" y="685800"/>
          <a:ext cx="914400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91440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1015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International Donor Statistics 1998</a:t>
            </a:r>
            <a:br>
              <a:rPr sz="2700"/>
            </a:b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% of Multiple Organ Donors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838080" y="1141920"/>
            <a:ext cx="9144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2600" y="6299280"/>
            <a:ext cx="97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3400" y="1498680"/>
            <a:ext cx="1904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09160" y="1494000"/>
            <a:ext cx="207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Donors  PM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29200"/>
            <a:ext cx="1189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% Mult. Dono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4840" y="5715000"/>
            <a:ext cx="87400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urotransplant:</a:t>
            </a:r>
            <a:r>
              <a:rPr b="1" lang="en-US" sz="19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Germany, Austria, Belgium, Luxembourg, The Netherl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candia Transplant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:  Denmark, Finland, Norway, Sweden  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9440" y="6423120"/>
            <a:ext cx="35114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ource: Council of Europe  199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5181480"/>
            <a:ext cx="87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69%     N/A      79%      85%     78%    66%      83%     N/A      N/A       77%     76%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720" y="64008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231920" y="1820880"/>
          <a:ext cx="778356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1820880"/>
                    <a:ext cx="778356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027240" y="957240"/>
            <a:ext cx="4275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ustralia   1989 - 1998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17280" y="5877000"/>
            <a:ext cx="1319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n=202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16080" y="411120"/>
            <a:ext cx="4297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Cause of Donor Death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46320" y="1501920"/>
            <a:ext cx="58672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193760" y="1803240"/>
          <a:ext cx="778356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3760" y="1803240"/>
                    <a:ext cx="778356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593800" y="954000"/>
            <a:ext cx="5143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New Zealand   1993 - 1998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59040" y="5884920"/>
            <a:ext cx="1134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n=22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17880" y="411120"/>
            <a:ext cx="4297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Cause of Donor Death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46320" y="1486080"/>
            <a:ext cx="58672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219320" y="1752480"/>
          <a:ext cx="778356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778356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743200" y="990720"/>
            <a:ext cx="4686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ustralia   1989 - 1998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8720" y="5491080"/>
            <a:ext cx="1319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n=202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57200"/>
            <a:ext cx="46864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Blood Group of Donors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1641600"/>
            <a:ext cx="58672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219320" y="1752480"/>
          <a:ext cx="778356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778356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590920" y="990720"/>
            <a:ext cx="5257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New Zealand   1993 - 1998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4640" y="5478480"/>
            <a:ext cx="1134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n=22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57200"/>
            <a:ext cx="4686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Blood Group of Donors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1628640"/>
            <a:ext cx="58672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58680" y="264600"/>
            <a:ext cx="6546600" cy="4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500"/>
            </a:b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Australia   1994 - 1998</a:t>
            </a: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98720" y="968400"/>
          <a:ext cx="8342280" cy="54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968400"/>
                    <a:ext cx="834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8080" y="1219320"/>
            <a:ext cx="859788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56240" y="16527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idn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31120" y="1609560"/>
            <a:ext cx="30456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31120" y="1925640"/>
            <a:ext cx="304560" cy="228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3520" y="1511280"/>
            <a:ext cx="1954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iting Lis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96240" y="1827360"/>
            <a:ext cx="22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x Performed *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8120" y="6002280"/>
            <a:ext cx="55299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*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kidneys donated from New Zea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90720" y="685800"/>
          <a:ext cx="8327880" cy="54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8327880" cy="54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585120" cy="98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500"/>
            </a:b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New Zealand   1995 - 1998</a:t>
            </a: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203480"/>
            <a:ext cx="85993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01240" y="175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idn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45240" y="1620720"/>
            <a:ext cx="30492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45240" y="1936800"/>
            <a:ext cx="304920" cy="228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82360" y="149076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iting Li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5440" y="1828800"/>
            <a:ext cx="205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x Perform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933480" y="824040"/>
          <a:ext cx="833292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824040"/>
                    <a:ext cx="83329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68580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ustralia  1998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95320" y="1268280"/>
            <a:ext cx="859644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6400" y="1550880"/>
            <a:ext cx="365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for Period  (1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03120" y="1550880"/>
            <a:ext cx="389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dney Transplants  (3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6280" y="154080"/>
            <a:ext cx="37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Age of Kidney Don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938160" y="825480"/>
          <a:ext cx="833760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825480"/>
                    <a:ext cx="833760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76720" y="685800"/>
            <a:ext cx="39081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New Zealand  1998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1268280"/>
            <a:ext cx="859644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2240" y="1600200"/>
            <a:ext cx="3489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for Period  (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08640" y="1600200"/>
            <a:ext cx="41626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dney Transplants  (79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4 Transplanted in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66280" y="154080"/>
            <a:ext cx="37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Age of Kidney Don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911240" y="1387440"/>
            <a:ext cx="314352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 19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 191 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Kidneys not retrieved  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Kidneys retrieved  36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Kidneys not transplanted  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Kidneys en bloc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Double adult  1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3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Kidneys Transplanted  3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86560" y="1387440"/>
            <a:ext cx="320040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 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 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 4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 46 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Kidneys not retrieved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Kidneys retrieved  8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Kidney not transplanted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Kidneys en blo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Kidneys Transplanted  79 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79440" y="3946680"/>
            <a:ext cx="260280" cy="733320"/>
            <a:chOff x="2179440" y="3946680"/>
            <a:chExt cx="260280" cy="733320"/>
          </a:xfrm>
        </p:grpSpPr>
        <p:sp>
          <p:nvSpPr>
            <p:cNvPr id="216" name=""/>
            <p:cNvSpPr/>
            <p:nvPr/>
          </p:nvSpPr>
          <p:spPr>
            <a:xfrm flipH="1" flipV="1">
              <a:off x="2179440" y="394668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9800" y="3946680"/>
              <a:ext cx="0" cy="733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180880" y="5121360"/>
            <a:ext cx="228600" cy="838080"/>
            <a:chOff x="2180880" y="5121360"/>
            <a:chExt cx="228600" cy="838080"/>
          </a:xfrm>
        </p:grpSpPr>
        <p:sp>
          <p:nvSpPr>
            <p:cNvPr id="219" name=""/>
            <p:cNvSpPr/>
            <p:nvPr/>
          </p:nvSpPr>
          <p:spPr>
            <a:xfrm flipH="1" flipV="1">
              <a:off x="2180880" y="512136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81240" y="512748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989680" y="3957120"/>
            <a:ext cx="261360" cy="746640"/>
            <a:chOff x="5989680" y="3957120"/>
            <a:chExt cx="261360" cy="746640"/>
          </a:xfrm>
        </p:grpSpPr>
        <p:sp>
          <p:nvSpPr>
            <p:cNvPr id="222" name=""/>
            <p:cNvSpPr/>
            <p:nvPr/>
          </p:nvSpPr>
          <p:spPr>
            <a:xfrm flipH="1" flipV="1">
              <a:off x="5990760" y="3957120"/>
              <a:ext cx="26028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989680" y="3957480"/>
              <a:ext cx="1440" cy="746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976720" y="5138280"/>
            <a:ext cx="228600" cy="838800"/>
            <a:chOff x="5976720" y="5138280"/>
            <a:chExt cx="228600" cy="838800"/>
          </a:xfrm>
        </p:grpSpPr>
        <p:sp>
          <p:nvSpPr>
            <p:cNvPr id="225" name=""/>
            <p:cNvSpPr/>
            <p:nvPr/>
          </p:nvSpPr>
          <p:spPr>
            <a:xfrm flipH="1" flipV="1">
              <a:off x="5976720" y="513828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77080" y="5138640"/>
              <a:ext cx="0" cy="838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179440" y="1787040"/>
            <a:ext cx="228600" cy="1808640"/>
            <a:chOff x="2179440" y="1787040"/>
            <a:chExt cx="228600" cy="1808640"/>
          </a:xfrm>
        </p:grpSpPr>
        <p:grpSp>
          <p:nvGrpSpPr>
            <p:cNvPr id="228" name=""/>
            <p:cNvGrpSpPr/>
            <p:nvPr/>
          </p:nvGrpSpPr>
          <p:grpSpPr>
            <a:xfrm>
              <a:off x="2179440" y="1787040"/>
              <a:ext cx="228600" cy="665640"/>
              <a:chOff x="2179440" y="1787040"/>
              <a:chExt cx="228600" cy="665640"/>
            </a:xfrm>
          </p:grpSpPr>
          <p:sp>
            <p:nvSpPr>
              <p:cNvPr id="229" name=""/>
              <p:cNvSpPr/>
              <p:nvPr/>
            </p:nvSpPr>
            <p:spPr>
              <a:xfrm flipH="1" flipV="1">
                <a:off x="2179440" y="178704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79800" y="178740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H="1" flipV="1">
              <a:off x="2179440" y="293004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9800" y="293040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865480" y="642636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"/>
              </a:rPr>
              <a:t>* 4  Transplanted in Austr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989320" y="1787040"/>
            <a:ext cx="228600" cy="1808640"/>
            <a:chOff x="5989320" y="1787040"/>
            <a:chExt cx="228600" cy="1808640"/>
          </a:xfrm>
        </p:grpSpPr>
        <p:grpSp>
          <p:nvGrpSpPr>
            <p:cNvPr id="235" name=""/>
            <p:cNvGrpSpPr/>
            <p:nvPr/>
          </p:nvGrpSpPr>
          <p:grpSpPr>
            <a:xfrm>
              <a:off x="5989320" y="1787040"/>
              <a:ext cx="228600" cy="665640"/>
              <a:chOff x="5989320" y="1787040"/>
              <a:chExt cx="228600" cy="665640"/>
            </a:xfrm>
          </p:grpSpPr>
          <p:sp>
            <p:nvSpPr>
              <p:cNvPr id="236" name=""/>
              <p:cNvSpPr/>
              <p:nvPr/>
            </p:nvSpPr>
            <p:spPr>
              <a:xfrm flipH="1" flipV="1">
                <a:off x="5989320" y="178704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989680" y="178740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flipH="1" flipV="1">
              <a:off x="5989320" y="293004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89680" y="293040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082960" y="83016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86360" y="83016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7080" y="276120"/>
            <a:ext cx="62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fafd00"/>
                </a:solidFill>
                <a:latin typeface="Arial Black"/>
              </a:rPr>
              <a:t>Outcome of Request for Kidney Donation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3400" y="640080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57&amp;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71640" y="214200"/>
            <a:ext cx="65469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Australia   1994 - 1998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98640" y="725400"/>
          <a:ext cx="834372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725400"/>
                    <a:ext cx="834372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26920" y="1092240"/>
            <a:ext cx="859824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03760" y="1512720"/>
            <a:ext cx="87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0040" y="1469880"/>
            <a:ext cx="30456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0040" y="1785960"/>
            <a:ext cx="30456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7240" y="1386000"/>
            <a:ext cx="1954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iting Lis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50320" y="1701720"/>
            <a:ext cx="22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x Performed *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77720" y="1019160"/>
          <a:ext cx="9725040" cy="59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1019160"/>
                    <a:ext cx="972504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760" y="279000"/>
            <a:ext cx="10150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Donors Per Month in Australia 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1993 - 1995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06360"/>
            <a:ext cx="9543960" cy="1800"/>
          </a:xfrm>
          <a:custGeom>
            <a:avLst/>
            <a:gdLst/>
            <a:ahLst/>
            <a:rect l="l" t="t" r="r" b="b"/>
            <a:pathLst>
              <a:path w="6012" h="1">
                <a:moveTo>
                  <a:pt x="0" y="0"/>
                </a:moveTo>
                <a:lnTo>
                  <a:pt x="6011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77480" y="6308640"/>
            <a:ext cx="6602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840" y="1508040"/>
            <a:ext cx="302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 of  Don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43880" y="2152800"/>
            <a:ext cx="255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5600" y="64008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6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944640" y="677880"/>
          <a:ext cx="833256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677880"/>
                    <a:ext cx="833256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301560" y="62064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ustralia  1998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295280"/>
            <a:ext cx="859644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6280" y="1676520"/>
            <a:ext cx="365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for Period  (1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0" y="1676520"/>
            <a:ext cx="342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Recipients  (1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93400" y="5970600"/>
            <a:ext cx="6238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AU" sz="2100" spc="-1" strike="noStrike">
                <a:solidFill>
                  <a:srgbClr val="ffffff"/>
                </a:solidFill>
                <a:latin typeface="Times New Roman"/>
              </a:rPr>
              <a:t>Number of livers transplanted into two recipi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Times New Roman"/>
              </a:rPr>
              <a:t>+ One liver split and used for one paediatric patient onl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87440" y="22604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(3) </a:t>
            </a:r>
            <a:r>
              <a:rPr b="1" i="1" lang="en-AU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4840" y="28954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(1)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560" y="28954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(1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22240" y="18108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Age of Liver Don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53280" y="28954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(1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91520" y="28954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(1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874800" y="507960"/>
          <a:ext cx="833760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507960"/>
                    <a:ext cx="833760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76720" y="914400"/>
            <a:ext cx="39081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New Zealand  1998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9400" y="1457280"/>
            <a:ext cx="859644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9960" y="1905120"/>
            <a:ext cx="3489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for Period  (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3720" y="1905120"/>
            <a:ext cx="345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Recipients  (30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2600" y="6019920"/>
            <a:ext cx="4402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6 Livers transplanted in Austral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2240" y="18108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Age of Liver Don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027160" y="8254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60480" y="1395360"/>
            <a:ext cx="3143160" cy="519588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1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18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82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ivers not retrieved 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ivers retrieved 13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ivers not transplanted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ivers Transplanted 132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* 138 recipients transpla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35800" y="1395360"/>
            <a:ext cx="3200400" cy="519588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4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41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ivers not retrieved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ivers retrieved 3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ivers not transplanted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ivers Transplanted  3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128320" y="3954600"/>
            <a:ext cx="260280" cy="733320"/>
            <a:chOff x="2128320" y="3954600"/>
            <a:chExt cx="260280" cy="733320"/>
          </a:xfrm>
        </p:grpSpPr>
        <p:sp>
          <p:nvSpPr>
            <p:cNvPr id="281" name=""/>
            <p:cNvSpPr/>
            <p:nvPr/>
          </p:nvSpPr>
          <p:spPr>
            <a:xfrm flipH="1" flipV="1">
              <a:off x="2128320" y="395460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28680" y="3954600"/>
              <a:ext cx="0" cy="733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130120" y="5129280"/>
            <a:ext cx="228600" cy="838080"/>
            <a:chOff x="2130120" y="5129280"/>
            <a:chExt cx="228600" cy="838080"/>
          </a:xfrm>
        </p:grpSpPr>
        <p:sp>
          <p:nvSpPr>
            <p:cNvPr id="284" name=""/>
            <p:cNvSpPr/>
            <p:nvPr/>
          </p:nvSpPr>
          <p:spPr>
            <a:xfrm flipH="1" flipV="1">
              <a:off x="2130120" y="512928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30480" y="513540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938920" y="3965040"/>
            <a:ext cx="261360" cy="746640"/>
            <a:chOff x="5938920" y="3965040"/>
            <a:chExt cx="261360" cy="746640"/>
          </a:xfrm>
        </p:grpSpPr>
        <p:sp>
          <p:nvSpPr>
            <p:cNvPr id="287" name=""/>
            <p:cNvSpPr/>
            <p:nvPr/>
          </p:nvSpPr>
          <p:spPr>
            <a:xfrm flipH="1" flipV="1">
              <a:off x="5940000" y="3965040"/>
              <a:ext cx="26028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938920" y="3965400"/>
              <a:ext cx="1440" cy="746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25600" y="5146200"/>
            <a:ext cx="228600" cy="838800"/>
            <a:chOff x="5925600" y="5146200"/>
            <a:chExt cx="228600" cy="838800"/>
          </a:xfrm>
        </p:grpSpPr>
        <p:sp>
          <p:nvSpPr>
            <p:cNvPr id="290" name=""/>
            <p:cNvSpPr/>
            <p:nvPr/>
          </p:nvSpPr>
          <p:spPr>
            <a:xfrm flipH="1" flipV="1">
              <a:off x="5925600" y="514620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25960" y="5146560"/>
              <a:ext cx="0" cy="838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128320" y="1794960"/>
            <a:ext cx="228600" cy="1808640"/>
            <a:chOff x="2128320" y="1794960"/>
            <a:chExt cx="228600" cy="1808640"/>
          </a:xfrm>
        </p:grpSpPr>
        <p:grpSp>
          <p:nvGrpSpPr>
            <p:cNvPr id="293" name=""/>
            <p:cNvGrpSpPr/>
            <p:nvPr/>
          </p:nvGrpSpPr>
          <p:grpSpPr>
            <a:xfrm>
              <a:off x="2128320" y="1794960"/>
              <a:ext cx="228600" cy="665640"/>
              <a:chOff x="2128320" y="1794960"/>
              <a:chExt cx="228600" cy="665640"/>
            </a:xfrm>
          </p:grpSpPr>
          <p:sp>
            <p:nvSpPr>
              <p:cNvPr id="294" name=""/>
              <p:cNvSpPr/>
              <p:nvPr/>
            </p:nvSpPr>
            <p:spPr>
              <a:xfrm flipH="1" flipV="1">
                <a:off x="2128320" y="179496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28680" y="179532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H="1" flipV="1">
              <a:off x="2128320" y="293796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28680" y="293832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38560" y="1794960"/>
            <a:ext cx="228600" cy="1808640"/>
            <a:chOff x="5938560" y="1794960"/>
            <a:chExt cx="228600" cy="1808640"/>
          </a:xfrm>
        </p:grpSpPr>
        <p:grpSp>
          <p:nvGrpSpPr>
            <p:cNvPr id="299" name=""/>
            <p:cNvGrpSpPr/>
            <p:nvPr/>
          </p:nvGrpSpPr>
          <p:grpSpPr>
            <a:xfrm>
              <a:off x="5938560" y="1794960"/>
              <a:ext cx="228600" cy="665640"/>
              <a:chOff x="5938560" y="1794960"/>
              <a:chExt cx="228600" cy="66564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938560" y="179496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938920" y="179532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 flipH="1" flipV="1">
              <a:off x="5938560" y="293796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38920" y="293832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330280" y="237960"/>
            <a:ext cx="603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fafd00"/>
                </a:solidFill>
                <a:latin typeface="Arial Black"/>
              </a:rPr>
              <a:t>Outcome of Request for Liver Donation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30920" y="8254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3400" y="640080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72&amp;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990720" y="1066680"/>
          <a:ext cx="833112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833112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6913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09960" y="1812960"/>
            <a:ext cx="10584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He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68920" y="1749600"/>
            <a:ext cx="30492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68920" y="2065320"/>
            <a:ext cx="304920" cy="228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03880" y="1665360"/>
            <a:ext cx="1954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iting Lis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86600" y="1981080"/>
            <a:ext cx="22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x Performed *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13680" y="5972040"/>
            <a:ext cx="53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 See 1999 Organ Donor Registry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* Includes hearts donated from New Zea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114560" y="1447920"/>
            <a:ext cx="8091360" cy="288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990720" y="1066680"/>
          <a:ext cx="833112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833112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219800" cy="4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0800" y="1812960"/>
            <a:ext cx="33458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Heart/Lungs - Lu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68920" y="1749600"/>
            <a:ext cx="30492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68920" y="2065320"/>
            <a:ext cx="30492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0280" y="1665360"/>
            <a:ext cx="2035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aiting List 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3720" y="1981080"/>
            <a:ext cx="23810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x Performed *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18840" y="5950080"/>
            <a:ext cx="72730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 See 1999 Organ Donor Registry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*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cludes heart/lung and lungs donated from New Zeal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114560" y="1450440"/>
            <a:ext cx="8091360" cy="324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028880" y="888840"/>
          <a:ext cx="8316720" cy="56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888840"/>
                    <a:ext cx="831672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53544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Waiting List vs Cadaver Transplant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Zealand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114560" y="1447920"/>
            <a:ext cx="8091360" cy="288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9960" y="1812960"/>
            <a:ext cx="10584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He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68920" y="1749600"/>
            <a:ext cx="30492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8920" y="2065320"/>
            <a:ext cx="304920" cy="228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00280" y="1665360"/>
            <a:ext cx="2035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aiting List 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83360" y="1981080"/>
            <a:ext cx="2071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x Perform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14760" y="5711760"/>
            <a:ext cx="50954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 of waiting list at June of each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Z Donor Coordin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003320" y="914400"/>
          <a:ext cx="8318520" cy="560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914400"/>
                    <a:ext cx="831852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561360" cy="83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Waiting List vs Cadaver Transplant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Zealand   1994 - 1998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12840" y="1812960"/>
            <a:ext cx="1128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Lu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8920" y="1749600"/>
            <a:ext cx="30492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68920" y="2065320"/>
            <a:ext cx="304920" cy="228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00280" y="1665360"/>
            <a:ext cx="2035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aiting List 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83360" y="1981080"/>
            <a:ext cx="2071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x Perform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4760" y="5711760"/>
            <a:ext cx="50954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 of waiting list at June of each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Z Donor Coordin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114560" y="1450440"/>
            <a:ext cx="8091360" cy="324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1114560" y="514440"/>
          <a:ext cx="833256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514440"/>
                    <a:ext cx="833256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30720" y="304920"/>
            <a:ext cx="39081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of Heart Donors</a:t>
            </a:r>
            <a:br>
              <a:rPr sz="2500"/>
            </a:br>
            <a:br>
              <a:rPr sz="2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1523880"/>
            <a:ext cx="819000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88560" y="1906560"/>
            <a:ext cx="3489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for Period  (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7600" y="1906560"/>
            <a:ext cx="369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Transplants  (73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5104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16520" y="990720"/>
            <a:ext cx="2395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Arial Black"/>
              </a:rPr>
              <a:t>Australia 19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89360" y="5943600"/>
            <a:ext cx="5135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cludes four hearts used with lung b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xcludes hearts donated from New Zea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971640" y="514440"/>
          <a:ext cx="833256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14440"/>
                    <a:ext cx="833256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63400" y="10476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1523880"/>
            <a:ext cx="829944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1905120"/>
            <a:ext cx="348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for Period  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1640" y="1905120"/>
            <a:ext cx="369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Transplants  (13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5104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78480" y="914400"/>
            <a:ext cx="304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Arial Black"/>
              </a:rPr>
              <a:t>New Zealand 19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10640" y="5983200"/>
            <a:ext cx="557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cludes three hearts transplanted in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30720" y="304920"/>
            <a:ext cx="3908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of Heart Donors</a:t>
            </a:r>
            <a:br>
              <a:rPr sz="25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027160" y="8254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60480" y="1395360"/>
            <a:ext cx="314316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3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16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54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Hearts not retrieved 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Hearts retrieved 7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Hearts not transplanted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Hearts Transplanted  7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35800" y="1395360"/>
            <a:ext cx="320040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1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3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35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Hearts not retrieved  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Hearts retrieved 1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Hearts not transplanted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Hearts Transplanted  1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128320" y="3954600"/>
            <a:ext cx="260280" cy="733320"/>
            <a:chOff x="2128320" y="3954600"/>
            <a:chExt cx="260280" cy="733320"/>
          </a:xfrm>
        </p:grpSpPr>
        <p:sp>
          <p:nvSpPr>
            <p:cNvPr id="376" name=""/>
            <p:cNvSpPr/>
            <p:nvPr/>
          </p:nvSpPr>
          <p:spPr>
            <a:xfrm flipH="1" flipV="1">
              <a:off x="2128320" y="395460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28680" y="3954600"/>
              <a:ext cx="0" cy="733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130120" y="5129280"/>
            <a:ext cx="228600" cy="838080"/>
            <a:chOff x="2130120" y="5129280"/>
            <a:chExt cx="228600" cy="838080"/>
          </a:xfrm>
        </p:grpSpPr>
        <p:sp>
          <p:nvSpPr>
            <p:cNvPr id="379" name=""/>
            <p:cNvSpPr/>
            <p:nvPr/>
          </p:nvSpPr>
          <p:spPr>
            <a:xfrm flipH="1" flipV="1">
              <a:off x="2130120" y="512928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30480" y="513540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938920" y="3965040"/>
            <a:ext cx="261360" cy="746640"/>
            <a:chOff x="5938920" y="3965040"/>
            <a:chExt cx="261360" cy="746640"/>
          </a:xfrm>
        </p:grpSpPr>
        <p:sp>
          <p:nvSpPr>
            <p:cNvPr id="382" name=""/>
            <p:cNvSpPr/>
            <p:nvPr/>
          </p:nvSpPr>
          <p:spPr>
            <a:xfrm flipH="1" flipV="1">
              <a:off x="5940000" y="3965040"/>
              <a:ext cx="26028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938920" y="3965400"/>
              <a:ext cx="1440" cy="746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925600" y="5146200"/>
            <a:ext cx="228600" cy="838800"/>
            <a:chOff x="5925600" y="5146200"/>
            <a:chExt cx="228600" cy="838800"/>
          </a:xfrm>
        </p:grpSpPr>
        <p:sp>
          <p:nvSpPr>
            <p:cNvPr id="385" name=""/>
            <p:cNvSpPr/>
            <p:nvPr/>
          </p:nvSpPr>
          <p:spPr>
            <a:xfrm flipH="1" flipV="1">
              <a:off x="5925600" y="514620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25960" y="5146560"/>
              <a:ext cx="0" cy="838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128320" y="1794960"/>
            <a:ext cx="228600" cy="1808640"/>
            <a:chOff x="2128320" y="1794960"/>
            <a:chExt cx="228600" cy="1808640"/>
          </a:xfrm>
        </p:grpSpPr>
        <p:grpSp>
          <p:nvGrpSpPr>
            <p:cNvPr id="388" name=""/>
            <p:cNvGrpSpPr/>
            <p:nvPr/>
          </p:nvGrpSpPr>
          <p:grpSpPr>
            <a:xfrm>
              <a:off x="2128320" y="1794960"/>
              <a:ext cx="228600" cy="665640"/>
              <a:chOff x="2128320" y="1794960"/>
              <a:chExt cx="228600" cy="66564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2128320" y="179496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128680" y="179532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 flipV="1">
              <a:off x="2128320" y="293796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28680" y="293832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938560" y="1794960"/>
            <a:ext cx="228600" cy="1808640"/>
            <a:chOff x="5938560" y="1794960"/>
            <a:chExt cx="228600" cy="1808640"/>
          </a:xfrm>
        </p:grpSpPr>
        <p:grpSp>
          <p:nvGrpSpPr>
            <p:cNvPr id="394" name=""/>
            <p:cNvGrpSpPr/>
            <p:nvPr/>
          </p:nvGrpSpPr>
          <p:grpSpPr>
            <a:xfrm>
              <a:off x="5938560" y="1794960"/>
              <a:ext cx="228600" cy="665640"/>
              <a:chOff x="5938560" y="1794960"/>
              <a:chExt cx="228600" cy="665640"/>
            </a:xfrm>
          </p:grpSpPr>
          <p:sp>
            <p:nvSpPr>
              <p:cNvPr id="395" name=""/>
              <p:cNvSpPr/>
              <p:nvPr/>
            </p:nvSpPr>
            <p:spPr>
              <a:xfrm flipH="1" flipV="1">
                <a:off x="5938560" y="179496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938920" y="179532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 flipH="1" flipV="1">
              <a:off x="5938560" y="293796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38920" y="293832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323800" y="237960"/>
            <a:ext cx="613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fafd00"/>
                </a:solidFill>
                <a:latin typeface="Arial Black"/>
              </a:rPr>
              <a:t>Outcome of Request for Heart Donation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30920" y="8254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3400" y="640080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84&amp;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0280" y="1185840"/>
          <a:ext cx="9725040" cy="57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185840"/>
                    <a:ext cx="972504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39400"/>
            <a:ext cx="10150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Donors Per Month in Australia 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 1996 - 1998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440" y="1230480"/>
            <a:ext cx="9543960" cy="1440"/>
          </a:xfrm>
          <a:custGeom>
            <a:avLst/>
            <a:gdLst/>
            <a:ahLst/>
            <a:rect l="l" t="t" r="r" b="b"/>
            <a:pathLst>
              <a:path w="6012" h="1">
                <a:moveTo>
                  <a:pt x="0" y="0"/>
                </a:moveTo>
                <a:lnTo>
                  <a:pt x="6011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77480" y="6308640"/>
            <a:ext cx="6602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73560" y="1495440"/>
            <a:ext cx="302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 of  Don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43880" y="2152800"/>
            <a:ext cx="255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9840" y="6400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6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942840" y="1162080"/>
          <a:ext cx="8601120" cy="54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1162080"/>
                    <a:ext cx="860112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885960" y="928800"/>
            <a:ext cx="865800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6680" y="1346040"/>
            <a:ext cx="2710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Mean Donor 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15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Heart  Transplants  1984 - 1997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291960" y="1541520"/>
          <a:ext cx="9506160" cy="52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541520"/>
                    <a:ext cx="95061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7284960" y="35100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98680" y="4578480"/>
            <a:ext cx="170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p &lt; 0.05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914400" y="901440"/>
            <a:ext cx="8291520" cy="1260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88080" y="2658960"/>
            <a:ext cx="10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Other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83200" y="3747960"/>
            <a:ext cx="170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Domino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17320" y="979560"/>
            <a:ext cx="365508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 Black"/>
              </a:rPr>
              <a:t>Actuarial Surviv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Domino vs Other He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14560" y="209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Heart  Transplants  1984 - 199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64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Heart Transplants  1984 - 1997</a:t>
            </a: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 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87360" y="1523880"/>
          <a:ext cx="950580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523880"/>
                    <a:ext cx="95058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7284960" y="35100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11320" y="4591080"/>
            <a:ext cx="170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p = ns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7360" y="895320"/>
            <a:ext cx="950760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60680" y="996840"/>
            <a:ext cx="5181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Actuarial Survival</a:t>
            </a:r>
            <a:br>
              <a:rPr sz="2300"/>
            </a:br>
            <a:r>
              <a:rPr b="0" lang="en-US" sz="23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Donor Age</a:t>
            </a:r>
            <a:r>
              <a:rPr b="0" lang="en-US" sz="23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48720" y="220968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AU" sz="2000" spc="-1" strike="noStrike">
                <a:solidFill>
                  <a:srgbClr val="ffff00"/>
                </a:solidFill>
                <a:latin typeface="Arial"/>
              </a:rPr>
              <a:t>Donor Age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64960" y="1503360"/>
          <a:ext cx="9506160" cy="52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1503360"/>
                    <a:ext cx="950616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7284960" y="35100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95360" y="4538520"/>
            <a:ext cx="170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p = ns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14400" y="914400"/>
            <a:ext cx="8291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94640" y="2556000"/>
            <a:ext cx="103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Male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20040" y="3308400"/>
            <a:ext cx="138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Female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004760"/>
            <a:ext cx="275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 Black"/>
              </a:rPr>
              <a:t>Actuarial Surviv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Donor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Heart  Transplants  1984 - 199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01000" cy="64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Heart Transplants  1984 - 1997</a:t>
            </a: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 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99960" y="1523880"/>
          <a:ext cx="950616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523880"/>
                    <a:ext cx="950616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7284960" y="35100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76240" y="4656240"/>
            <a:ext cx="170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AU" sz="2200" spc="-1" strike="noStrike">
                <a:solidFill>
                  <a:srgbClr val="ffff00"/>
                </a:solidFill>
                <a:latin typeface="Arial"/>
              </a:rPr>
              <a:t>p = ns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8440" y="895320"/>
            <a:ext cx="9326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73280" y="1089000"/>
            <a:ext cx="5181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Actuarial Survival</a:t>
            </a:r>
            <a:br>
              <a:rPr sz="2300"/>
            </a:br>
            <a:r>
              <a:rPr b="0" lang="en-US" sz="23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Ischaemic Time</a:t>
            </a:r>
            <a:r>
              <a:rPr b="0" lang="en-US" sz="23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Heart Transplants  1984 - 1997</a:t>
            </a: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 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581040" y="1641600"/>
          <a:ext cx="950580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641600"/>
                    <a:ext cx="950580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7284960" y="35100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73240" y="4334040"/>
            <a:ext cx="4243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AU" sz="1900" spc="-1" strike="noStrike">
                <a:solidFill>
                  <a:srgbClr val="ffff00"/>
                </a:solidFill>
                <a:latin typeface="Arial"/>
              </a:rPr>
              <a:t>4 mm vs 5 mm   p &lt; 0.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AU" sz="1900" spc="-1" strike="noStrike">
                <a:solidFill>
                  <a:srgbClr val="ffff00"/>
                </a:solidFill>
                <a:latin typeface="Arial"/>
              </a:rPr>
              <a:t>4 mm vs 6 mm   p &lt; 0.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1040" y="804960"/>
            <a:ext cx="93139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76520" y="914400"/>
            <a:ext cx="5418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Actuarial Survival</a:t>
            </a:r>
            <a:br>
              <a:rPr sz="2300"/>
            </a:br>
            <a:r>
              <a:rPr b="0" lang="en-US" sz="23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HLA Mismatch</a:t>
            </a:r>
            <a:r>
              <a:rPr b="0" lang="en-US" sz="23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150400" y="2247840"/>
            <a:ext cx="170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Mismatch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01000" cy="6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Heart Transplants  1984 - 1997</a:t>
            </a: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 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555480" y="1666800"/>
          <a:ext cx="9506160" cy="52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666800"/>
                    <a:ext cx="9506160" cy="52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7284960" y="35100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68480" y="4708440"/>
            <a:ext cx="42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AU" sz="1900" spc="-1" strike="noStrike">
                <a:solidFill>
                  <a:srgbClr val="ffff00"/>
                </a:solidFill>
                <a:latin typeface="Arial"/>
              </a:rPr>
              <a:t>1 DR mm vs 2 DR mm   p &lt; 0.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804960"/>
            <a:ext cx="898056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76520" y="914400"/>
            <a:ext cx="51814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Actuarial Survival</a:t>
            </a:r>
            <a:br>
              <a:rPr sz="2300"/>
            </a:br>
            <a:r>
              <a:rPr b="0" lang="en-US" sz="2300" spc="-1" strike="noStrike">
                <a:solidFill>
                  <a:srgbClr val="fafd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HLA DR Locus Mismatch</a:t>
            </a:r>
            <a:r>
              <a:rPr b="0" lang="en-US" sz="23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110440" y="2365200"/>
            <a:ext cx="170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Mismatch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1057320" y="442800"/>
          <a:ext cx="833112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7320" y="442800"/>
                    <a:ext cx="833112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92200" y="28908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of Lung Donors</a:t>
            </a:r>
            <a:br>
              <a:rPr sz="2500"/>
            </a:br>
            <a:br>
              <a:rPr sz="2400"/>
            </a:br>
            <a:br>
              <a:rPr sz="2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06480" y="1446120"/>
            <a:ext cx="848196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40960" y="1828800"/>
            <a:ext cx="3210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nors for Period  (7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39640" y="1817640"/>
            <a:ext cx="352260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ung Transplants  (132)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umber of  Recipien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ouble (49)  - Single (34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5104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00760" y="888840"/>
            <a:ext cx="247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700" spc="-1" strike="noStrike">
                <a:solidFill>
                  <a:srgbClr val="ffff00"/>
                </a:solidFill>
                <a:latin typeface="Arial Black"/>
              </a:rPr>
              <a:t>Australia 199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64400" y="5994360"/>
            <a:ext cx="622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Includes four double lungs transplanted with heart blo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4960" y="64008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995400" y="515880"/>
          <a:ext cx="8331120" cy="54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515880"/>
                    <a:ext cx="8331120" cy="54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288960" y="78840"/>
            <a:ext cx="3908520" cy="4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38080" y="1447920"/>
            <a:ext cx="859644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3760" y="1828800"/>
            <a:ext cx="3190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Donors for Period  (8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61080" y="1830240"/>
            <a:ext cx="35150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Lung Transplants  (15) 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umber of  Recipient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uble (6)  - Single 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65104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58960" y="890640"/>
            <a:ext cx="324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700" spc="-1" strike="noStrike">
                <a:solidFill>
                  <a:srgbClr val="ffff00"/>
                </a:solidFill>
                <a:latin typeface="Arial Black"/>
              </a:rPr>
              <a:t>New Zealand  199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75280" y="5950080"/>
            <a:ext cx="585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Includes four double lungs transplanted in Austral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4960" y="64008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92560" y="289080"/>
            <a:ext cx="390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of Lung Donors</a:t>
            </a:r>
            <a:br>
              <a:rPr sz="25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052720" y="682560"/>
            <a:ext cx="2786040" cy="3920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86040" y="1163520"/>
            <a:ext cx="3095640" cy="504360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4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15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50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ungs not retrieved 1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ungs retrieved 14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4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ungs not transplanted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ungs Transplanted  13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(Double lung 49 recipi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(Single lung 34 recipi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61000" y="1163520"/>
            <a:ext cx="3151080" cy="504360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1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28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ungs not retrieved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ungs retrieved 1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ungs not transplanted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ungs Transplanted  15 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(Double lung 6 recipi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(Single lung 3 recipi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130120" y="4714920"/>
            <a:ext cx="228600" cy="838080"/>
            <a:chOff x="2130120" y="4714920"/>
            <a:chExt cx="228600" cy="838080"/>
          </a:xfrm>
        </p:grpSpPr>
        <p:sp>
          <p:nvSpPr>
            <p:cNvPr id="488" name=""/>
            <p:cNvSpPr/>
            <p:nvPr/>
          </p:nvSpPr>
          <p:spPr>
            <a:xfrm flipH="1" flipV="1">
              <a:off x="2130120" y="47149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30480" y="472104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8320" y="3581280"/>
            <a:ext cx="4071960" cy="757440"/>
            <a:chOff x="2128320" y="3581280"/>
            <a:chExt cx="4071960" cy="757440"/>
          </a:xfrm>
        </p:grpSpPr>
        <p:grpSp>
          <p:nvGrpSpPr>
            <p:cNvPr id="491" name=""/>
            <p:cNvGrpSpPr/>
            <p:nvPr/>
          </p:nvGrpSpPr>
          <p:grpSpPr>
            <a:xfrm>
              <a:off x="2128320" y="3581280"/>
              <a:ext cx="260280" cy="733320"/>
              <a:chOff x="2128320" y="3581280"/>
              <a:chExt cx="260280" cy="733320"/>
            </a:xfrm>
          </p:grpSpPr>
          <p:sp>
            <p:nvSpPr>
              <p:cNvPr id="492" name=""/>
              <p:cNvSpPr/>
              <p:nvPr/>
            </p:nvSpPr>
            <p:spPr>
              <a:xfrm flipH="1" flipV="1">
                <a:off x="2128320" y="3581280"/>
                <a:ext cx="260280" cy="30456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128680" y="3581280"/>
                <a:ext cx="0" cy="7333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5938920" y="3592080"/>
              <a:ext cx="261360" cy="746640"/>
              <a:chOff x="5938920" y="3592080"/>
              <a:chExt cx="261360" cy="746640"/>
            </a:xfrm>
          </p:grpSpPr>
          <p:sp>
            <p:nvSpPr>
              <p:cNvPr id="495" name=""/>
              <p:cNvSpPr/>
              <p:nvPr/>
            </p:nvSpPr>
            <p:spPr>
              <a:xfrm flipH="1" flipV="1">
                <a:off x="5940000" y="3592080"/>
                <a:ext cx="26028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5938920" y="3592440"/>
                <a:ext cx="1440" cy="746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5925600" y="4731840"/>
            <a:ext cx="228600" cy="838800"/>
            <a:chOff x="5925600" y="4731840"/>
            <a:chExt cx="228600" cy="838800"/>
          </a:xfrm>
        </p:grpSpPr>
        <p:sp>
          <p:nvSpPr>
            <p:cNvPr id="498" name=""/>
            <p:cNvSpPr/>
            <p:nvPr/>
          </p:nvSpPr>
          <p:spPr>
            <a:xfrm flipH="1" flipV="1">
              <a:off x="5925600" y="473184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25960" y="4732200"/>
              <a:ext cx="0" cy="838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141280" y="1536840"/>
            <a:ext cx="228600" cy="664920"/>
            <a:chOff x="2141280" y="1536840"/>
            <a:chExt cx="228600" cy="664920"/>
          </a:xfrm>
        </p:grpSpPr>
        <p:sp>
          <p:nvSpPr>
            <p:cNvPr id="501" name=""/>
            <p:cNvSpPr/>
            <p:nvPr/>
          </p:nvSpPr>
          <p:spPr>
            <a:xfrm flipH="1" flipV="1">
              <a:off x="2141280" y="153684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41640" y="153684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951160" y="1536840"/>
            <a:ext cx="228600" cy="664920"/>
            <a:chOff x="5951160" y="1536840"/>
            <a:chExt cx="228600" cy="664920"/>
          </a:xfrm>
        </p:grpSpPr>
        <p:sp>
          <p:nvSpPr>
            <p:cNvPr id="504" name=""/>
            <p:cNvSpPr/>
            <p:nvPr/>
          </p:nvSpPr>
          <p:spPr>
            <a:xfrm flipH="1" flipV="1">
              <a:off x="5951160" y="153684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51520" y="153684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115720" y="2557440"/>
            <a:ext cx="4038480" cy="664920"/>
            <a:chOff x="2115720" y="2557440"/>
            <a:chExt cx="4038480" cy="664920"/>
          </a:xfrm>
        </p:grpSpPr>
        <p:sp>
          <p:nvSpPr>
            <p:cNvPr id="507" name=""/>
            <p:cNvSpPr/>
            <p:nvPr/>
          </p:nvSpPr>
          <p:spPr>
            <a:xfrm flipH="1" flipV="1">
              <a:off x="2115720" y="255744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16080" y="255744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5925600" y="255744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25960" y="255744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306160" y="174600"/>
            <a:ext cx="606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fafd00"/>
                </a:solidFill>
                <a:latin typeface="Arial Black"/>
              </a:rPr>
              <a:t>Outcome of Request for Lung Donation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56120" y="682560"/>
            <a:ext cx="2786400" cy="3920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94240" y="6269040"/>
            <a:ext cx="36608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4 Double lungs transplanted in Austral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4640" y="6400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04&amp;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155520"/>
          <a:ext cx="99820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520"/>
                    <a:ext cx="99820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14880" y="407880"/>
            <a:ext cx="39081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Group (%) Cadaver Donor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3680" y="974880"/>
            <a:ext cx="8291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82960" y="1376280"/>
            <a:ext cx="17215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Australia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2840" y="1994040"/>
            <a:ext cx="279360" cy="22860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2840" y="2387520"/>
            <a:ext cx="279360" cy="228600"/>
          </a:xfrm>
          <a:prstGeom prst="rect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2840" y="2781360"/>
            <a:ext cx="279360" cy="22860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420053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87880" y="1838160"/>
            <a:ext cx="1765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6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19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72480" y="2222640"/>
            <a:ext cx="168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19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72480" y="2641680"/>
            <a:ext cx="168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19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00" y="64911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1065240" y="1130400"/>
          <a:ext cx="8327880" cy="54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130400"/>
                    <a:ext cx="8327880" cy="54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61840" y="406440"/>
            <a:ext cx="693396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5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ustralia   1994 - 1998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42840" y="1382760"/>
            <a:ext cx="842328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95280" y="1728720"/>
            <a:ext cx="154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Panc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80160" y="1754280"/>
            <a:ext cx="30492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80160" y="2070000"/>
            <a:ext cx="304920" cy="228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52120" y="163836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iting Li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35200" y="19764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x Perform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4960" y="64008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2480" y="595008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 See 1999 Organ Donor Registry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952560" y="590400"/>
          <a:ext cx="833112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590400"/>
                    <a:ext cx="833112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81040" y="99072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ustralia  1998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68320" y="1298520"/>
            <a:ext cx="8596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67960" y="1974960"/>
            <a:ext cx="3353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Donors for Period  (18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95600" y="1974960"/>
            <a:ext cx="39096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ancreas Transplants  (18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11200" y="457200"/>
            <a:ext cx="4048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700" spc="-1" strike="noStrike">
                <a:solidFill>
                  <a:srgbClr val="fafd00"/>
                </a:solidFill>
                <a:latin typeface="Arial Black"/>
              </a:rPr>
              <a:t>Age of Pancreas Don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952560" y="1557000"/>
            <a:ext cx="8435880" cy="324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4960" y="64008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886040" y="890640"/>
            <a:ext cx="2786040" cy="4824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19360" y="1460520"/>
            <a:ext cx="314316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8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1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98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ancreas not retrieved 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Pancreas retrieved 2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ancreas not transplanted  7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Pancreas Transplanted  1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94320" y="1460520"/>
            <a:ext cx="320040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2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9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ancreas not retrieved 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Pancreas retrieved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ancreas not transplante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Pancreas Transplanted 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87200" y="4019040"/>
            <a:ext cx="260280" cy="734040"/>
            <a:chOff x="1987200" y="4019040"/>
            <a:chExt cx="260280" cy="734040"/>
          </a:xfrm>
        </p:grpSpPr>
        <p:sp>
          <p:nvSpPr>
            <p:cNvPr id="539" name=""/>
            <p:cNvSpPr/>
            <p:nvPr/>
          </p:nvSpPr>
          <p:spPr>
            <a:xfrm flipH="1" flipV="1">
              <a:off x="1987200" y="4019040"/>
              <a:ext cx="26028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87560" y="4019400"/>
              <a:ext cx="0" cy="733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988640" y="5194440"/>
            <a:ext cx="228600" cy="838080"/>
            <a:chOff x="1988640" y="5194440"/>
            <a:chExt cx="228600" cy="838080"/>
          </a:xfrm>
        </p:grpSpPr>
        <p:sp>
          <p:nvSpPr>
            <p:cNvPr id="542" name=""/>
            <p:cNvSpPr/>
            <p:nvPr/>
          </p:nvSpPr>
          <p:spPr>
            <a:xfrm flipH="1" flipV="1">
              <a:off x="1988640" y="519444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89000" y="520056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7440" y="4030200"/>
            <a:ext cx="261360" cy="746640"/>
            <a:chOff x="5797440" y="4030200"/>
            <a:chExt cx="261360" cy="746640"/>
          </a:xfrm>
        </p:grpSpPr>
        <p:sp>
          <p:nvSpPr>
            <p:cNvPr id="545" name=""/>
            <p:cNvSpPr/>
            <p:nvPr/>
          </p:nvSpPr>
          <p:spPr>
            <a:xfrm flipH="1" flipV="1">
              <a:off x="5798520" y="4030200"/>
              <a:ext cx="26028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5797440" y="4030560"/>
              <a:ext cx="1440" cy="746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784480" y="5211720"/>
            <a:ext cx="228600" cy="838080"/>
            <a:chOff x="5784480" y="5211720"/>
            <a:chExt cx="228600" cy="838080"/>
          </a:xfrm>
        </p:grpSpPr>
        <p:sp>
          <p:nvSpPr>
            <p:cNvPr id="548" name=""/>
            <p:cNvSpPr/>
            <p:nvPr/>
          </p:nvSpPr>
          <p:spPr>
            <a:xfrm flipH="1" flipV="1">
              <a:off x="5784480" y="52117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84840" y="5211720"/>
              <a:ext cx="0" cy="8380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987200" y="1860120"/>
            <a:ext cx="228600" cy="1808640"/>
            <a:chOff x="1987200" y="1860120"/>
            <a:chExt cx="228600" cy="1808640"/>
          </a:xfrm>
        </p:grpSpPr>
        <p:grpSp>
          <p:nvGrpSpPr>
            <p:cNvPr id="551" name=""/>
            <p:cNvGrpSpPr/>
            <p:nvPr/>
          </p:nvGrpSpPr>
          <p:grpSpPr>
            <a:xfrm>
              <a:off x="1987200" y="1860120"/>
              <a:ext cx="228600" cy="665640"/>
              <a:chOff x="1987200" y="1860120"/>
              <a:chExt cx="228600" cy="665640"/>
            </a:xfrm>
          </p:grpSpPr>
          <p:sp>
            <p:nvSpPr>
              <p:cNvPr id="552" name=""/>
              <p:cNvSpPr/>
              <p:nvPr/>
            </p:nvSpPr>
            <p:spPr>
              <a:xfrm flipH="1" flipV="1">
                <a:off x="1987200" y="186012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87560" y="186048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 flipH="1" flipV="1">
              <a:off x="1987200" y="300312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87560" y="300348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7080" y="1860120"/>
            <a:ext cx="228600" cy="1808640"/>
            <a:chOff x="5797080" y="1860120"/>
            <a:chExt cx="228600" cy="1808640"/>
          </a:xfrm>
        </p:grpSpPr>
        <p:grpSp>
          <p:nvGrpSpPr>
            <p:cNvPr id="557" name=""/>
            <p:cNvGrpSpPr/>
            <p:nvPr/>
          </p:nvGrpSpPr>
          <p:grpSpPr>
            <a:xfrm>
              <a:off x="5797080" y="1860120"/>
              <a:ext cx="228600" cy="665640"/>
              <a:chOff x="5797080" y="1860120"/>
              <a:chExt cx="228600" cy="665640"/>
            </a:xfrm>
          </p:grpSpPr>
          <p:sp>
            <p:nvSpPr>
              <p:cNvPr id="558" name=""/>
              <p:cNvSpPr/>
              <p:nvPr/>
            </p:nvSpPr>
            <p:spPr>
              <a:xfrm flipH="1" flipV="1">
                <a:off x="5797080" y="186012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797440" y="186048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flipH="1" flipV="1">
              <a:off x="5797080" y="300312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97440" y="300348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1972800" y="316080"/>
            <a:ext cx="659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fafd00"/>
                </a:solidFill>
                <a:latin typeface="Arial Black"/>
              </a:rPr>
              <a:t>Outcome of Request for Pancreas Donation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89440" y="890640"/>
            <a:ext cx="2786400" cy="4824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4640" y="6400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09&amp;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960560" y="8380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82720" y="1407960"/>
            <a:ext cx="314316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3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16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14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Corneas not retrieved 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rneas retrieved 20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Corneas not transplanted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4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rneas Transplanted  13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rneas Stored 4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557680" y="1407960"/>
            <a:ext cx="320040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2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2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6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Corneas not retrieved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rneas retrieved 2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Corneas not transplanted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rneas Transplanted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rneas Stored 2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050560" y="3967200"/>
            <a:ext cx="260280" cy="733320"/>
            <a:chOff x="2050560" y="3967200"/>
            <a:chExt cx="260280" cy="733320"/>
          </a:xfrm>
        </p:grpSpPr>
        <p:sp>
          <p:nvSpPr>
            <p:cNvPr id="569" name=""/>
            <p:cNvSpPr/>
            <p:nvPr/>
          </p:nvSpPr>
          <p:spPr>
            <a:xfrm flipH="1" flipV="1">
              <a:off x="2050560" y="396720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50920" y="3967200"/>
              <a:ext cx="0" cy="733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052360" y="5141880"/>
            <a:ext cx="228600" cy="838080"/>
            <a:chOff x="2052360" y="5141880"/>
            <a:chExt cx="228600" cy="838080"/>
          </a:xfrm>
        </p:grpSpPr>
        <p:sp>
          <p:nvSpPr>
            <p:cNvPr id="572" name=""/>
            <p:cNvSpPr/>
            <p:nvPr/>
          </p:nvSpPr>
          <p:spPr>
            <a:xfrm flipH="1" flipV="1">
              <a:off x="2052360" y="514188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2720" y="514800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861160" y="3978360"/>
            <a:ext cx="261360" cy="745920"/>
            <a:chOff x="5861160" y="3978360"/>
            <a:chExt cx="261360" cy="745920"/>
          </a:xfrm>
        </p:grpSpPr>
        <p:sp>
          <p:nvSpPr>
            <p:cNvPr id="575" name=""/>
            <p:cNvSpPr/>
            <p:nvPr/>
          </p:nvSpPr>
          <p:spPr>
            <a:xfrm flipH="1" flipV="1">
              <a:off x="5862240" y="397836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861160" y="3978360"/>
              <a:ext cx="1440" cy="745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5847840" y="5159520"/>
            <a:ext cx="228600" cy="838080"/>
            <a:chOff x="5847840" y="5159520"/>
            <a:chExt cx="228600" cy="838080"/>
          </a:xfrm>
        </p:grpSpPr>
        <p:sp>
          <p:nvSpPr>
            <p:cNvPr id="578" name=""/>
            <p:cNvSpPr/>
            <p:nvPr/>
          </p:nvSpPr>
          <p:spPr>
            <a:xfrm flipH="1" flipV="1">
              <a:off x="5847840" y="51595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48200" y="5159520"/>
              <a:ext cx="0" cy="8380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050560" y="1808280"/>
            <a:ext cx="228600" cy="1807560"/>
            <a:chOff x="2050560" y="1808280"/>
            <a:chExt cx="228600" cy="1807560"/>
          </a:xfrm>
        </p:grpSpPr>
        <p:grpSp>
          <p:nvGrpSpPr>
            <p:cNvPr id="581" name=""/>
            <p:cNvGrpSpPr/>
            <p:nvPr/>
          </p:nvGrpSpPr>
          <p:grpSpPr>
            <a:xfrm>
              <a:off x="2050560" y="1808280"/>
              <a:ext cx="228600" cy="664920"/>
              <a:chOff x="2050560" y="1808280"/>
              <a:chExt cx="228600" cy="664920"/>
            </a:xfrm>
          </p:grpSpPr>
          <p:sp>
            <p:nvSpPr>
              <p:cNvPr id="582" name=""/>
              <p:cNvSpPr/>
              <p:nvPr/>
            </p:nvSpPr>
            <p:spPr>
              <a:xfrm flipH="1" flipV="1">
                <a:off x="2050560" y="1808280"/>
                <a:ext cx="228600" cy="30456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050920" y="1808280"/>
                <a:ext cx="0" cy="66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 flipH="1" flipV="1">
              <a:off x="2050560" y="29509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50920" y="295092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860800" y="1808280"/>
            <a:ext cx="228600" cy="1807560"/>
            <a:chOff x="5860800" y="1808280"/>
            <a:chExt cx="228600" cy="1807560"/>
          </a:xfrm>
        </p:grpSpPr>
        <p:grpSp>
          <p:nvGrpSpPr>
            <p:cNvPr id="587" name=""/>
            <p:cNvGrpSpPr/>
            <p:nvPr/>
          </p:nvGrpSpPr>
          <p:grpSpPr>
            <a:xfrm>
              <a:off x="5860800" y="1808280"/>
              <a:ext cx="228600" cy="664920"/>
              <a:chOff x="5860800" y="1808280"/>
              <a:chExt cx="228600" cy="664920"/>
            </a:xfrm>
          </p:grpSpPr>
          <p:sp>
            <p:nvSpPr>
              <p:cNvPr id="588" name=""/>
              <p:cNvSpPr/>
              <p:nvPr/>
            </p:nvSpPr>
            <p:spPr>
              <a:xfrm flipH="1" flipV="1">
                <a:off x="5860800" y="1808280"/>
                <a:ext cx="228600" cy="30456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61160" y="1808280"/>
                <a:ext cx="0" cy="66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 flipH="1" flipV="1">
              <a:off x="5860800" y="29509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61160" y="295092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2000880" y="263520"/>
            <a:ext cx="641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fafd00"/>
                </a:solidFill>
                <a:latin typeface="Arial Black"/>
              </a:rPr>
              <a:t>Outcome of Request for Corneal Donation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764320" y="8380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4640" y="6400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11&amp;1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897200" y="8380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30520" y="1407960"/>
            <a:ext cx="314316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14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32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Bone not retrieved 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Bone retrieved 2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Bone not transplanted  1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Bone Transplanted 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Bone Stored  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05480" y="1407960"/>
            <a:ext cx="320040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3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1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1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Bone not retrieved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Bone retrieved 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Bone not transplanted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Bone Stored 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998360" y="3967200"/>
            <a:ext cx="260280" cy="733320"/>
            <a:chOff x="1998360" y="3967200"/>
            <a:chExt cx="260280" cy="733320"/>
          </a:xfrm>
        </p:grpSpPr>
        <p:sp>
          <p:nvSpPr>
            <p:cNvPr id="599" name=""/>
            <p:cNvSpPr/>
            <p:nvPr/>
          </p:nvSpPr>
          <p:spPr>
            <a:xfrm flipH="1" flipV="1">
              <a:off x="1998360" y="396720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98720" y="3967200"/>
              <a:ext cx="0" cy="733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999800" y="5141880"/>
            <a:ext cx="228600" cy="838080"/>
            <a:chOff x="1999800" y="5141880"/>
            <a:chExt cx="228600" cy="838080"/>
          </a:xfrm>
        </p:grpSpPr>
        <p:sp>
          <p:nvSpPr>
            <p:cNvPr id="602" name=""/>
            <p:cNvSpPr/>
            <p:nvPr/>
          </p:nvSpPr>
          <p:spPr>
            <a:xfrm flipH="1" flipV="1">
              <a:off x="1999800" y="514188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00160" y="514800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808600" y="3978360"/>
            <a:ext cx="261360" cy="745920"/>
            <a:chOff x="5808600" y="3978360"/>
            <a:chExt cx="261360" cy="745920"/>
          </a:xfrm>
        </p:grpSpPr>
        <p:sp>
          <p:nvSpPr>
            <p:cNvPr id="605" name=""/>
            <p:cNvSpPr/>
            <p:nvPr/>
          </p:nvSpPr>
          <p:spPr>
            <a:xfrm flipH="1" flipV="1">
              <a:off x="5809680" y="397836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5808600" y="3978360"/>
              <a:ext cx="1440" cy="745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795640" y="5159520"/>
            <a:ext cx="228600" cy="838080"/>
            <a:chOff x="5795640" y="5159520"/>
            <a:chExt cx="228600" cy="838080"/>
          </a:xfrm>
        </p:grpSpPr>
        <p:sp>
          <p:nvSpPr>
            <p:cNvPr id="608" name=""/>
            <p:cNvSpPr/>
            <p:nvPr/>
          </p:nvSpPr>
          <p:spPr>
            <a:xfrm flipH="1" flipV="1">
              <a:off x="5795640" y="51595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96000" y="5159520"/>
              <a:ext cx="0" cy="8380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1998360" y="1808280"/>
            <a:ext cx="228600" cy="1807560"/>
            <a:chOff x="1998360" y="1808280"/>
            <a:chExt cx="228600" cy="1807560"/>
          </a:xfrm>
        </p:grpSpPr>
        <p:grpSp>
          <p:nvGrpSpPr>
            <p:cNvPr id="611" name=""/>
            <p:cNvGrpSpPr/>
            <p:nvPr/>
          </p:nvGrpSpPr>
          <p:grpSpPr>
            <a:xfrm>
              <a:off x="1998360" y="1808280"/>
              <a:ext cx="228600" cy="664920"/>
              <a:chOff x="1998360" y="1808280"/>
              <a:chExt cx="228600" cy="664920"/>
            </a:xfrm>
          </p:grpSpPr>
          <p:sp>
            <p:nvSpPr>
              <p:cNvPr id="612" name=""/>
              <p:cNvSpPr/>
              <p:nvPr/>
            </p:nvSpPr>
            <p:spPr>
              <a:xfrm flipH="1" flipV="1">
                <a:off x="1998360" y="1808280"/>
                <a:ext cx="228600" cy="30456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998720" y="1808280"/>
                <a:ext cx="0" cy="66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 flipH="1" flipV="1">
              <a:off x="1998360" y="29509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98720" y="295092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808240" y="1808280"/>
            <a:ext cx="228600" cy="1807560"/>
            <a:chOff x="5808240" y="1808280"/>
            <a:chExt cx="228600" cy="1807560"/>
          </a:xfrm>
        </p:grpSpPr>
        <p:grpSp>
          <p:nvGrpSpPr>
            <p:cNvPr id="617" name=""/>
            <p:cNvGrpSpPr/>
            <p:nvPr/>
          </p:nvGrpSpPr>
          <p:grpSpPr>
            <a:xfrm>
              <a:off x="5808240" y="1808280"/>
              <a:ext cx="228600" cy="664920"/>
              <a:chOff x="5808240" y="1808280"/>
              <a:chExt cx="228600" cy="664920"/>
            </a:xfrm>
          </p:grpSpPr>
          <p:sp>
            <p:nvSpPr>
              <p:cNvPr id="618" name=""/>
              <p:cNvSpPr/>
              <p:nvPr/>
            </p:nvSpPr>
            <p:spPr>
              <a:xfrm flipH="1" flipV="1">
                <a:off x="5808240" y="1808280"/>
                <a:ext cx="228600" cy="30456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808600" y="1808280"/>
                <a:ext cx="0" cy="66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 flipH="1" flipV="1">
              <a:off x="5808240" y="29509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08600" y="295092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177280" y="263520"/>
            <a:ext cx="608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fafd00"/>
                </a:solidFill>
                <a:latin typeface="Arial Black"/>
              </a:rPr>
              <a:t>Outcome of Request for Bone Donation 19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00600" y="8380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4640" y="6400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13&amp;1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55520"/>
          <a:ext cx="99820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520"/>
                    <a:ext cx="99820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720" y="446040"/>
            <a:ext cx="812628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and Gender Distribution of Donor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2840" y="1006560"/>
            <a:ext cx="8291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99240" y="1832040"/>
            <a:ext cx="15843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2840" y="1852560"/>
            <a:ext cx="1143000" cy="1285200"/>
            <a:chOff x="1212840" y="1852560"/>
            <a:chExt cx="1143000" cy="1285200"/>
          </a:xfrm>
        </p:grpSpPr>
        <p:sp>
          <p:nvSpPr>
            <p:cNvPr id="86" name=""/>
            <p:cNvSpPr/>
            <p:nvPr/>
          </p:nvSpPr>
          <p:spPr>
            <a:xfrm>
              <a:off x="1212840" y="1994040"/>
              <a:ext cx="279360" cy="228600"/>
            </a:xfrm>
            <a:prstGeom prst="rect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12840" y="2387520"/>
              <a:ext cx="279360" cy="228600"/>
            </a:xfrm>
            <a:prstGeom prst="rect">
              <a:avLst/>
            </a:prstGeom>
            <a:solidFill>
              <a:srgbClr val="fafd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12840" y="2781360"/>
              <a:ext cx="279360" cy="22860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420053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98320" y="185256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8320" y="224784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98320" y="264168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460040" y="1270080"/>
            <a:ext cx="1249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00" y="64911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155520"/>
          <a:ext cx="99820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520"/>
                    <a:ext cx="99820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06280" y="420840"/>
            <a:ext cx="812628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and Gender Distribution of Donor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1006560"/>
            <a:ext cx="8291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9640" y="1824120"/>
            <a:ext cx="15843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212840" y="1852560"/>
            <a:ext cx="1143000" cy="1285200"/>
            <a:chOff x="1212840" y="1852560"/>
            <a:chExt cx="1143000" cy="1285200"/>
          </a:xfrm>
        </p:grpSpPr>
        <p:sp>
          <p:nvSpPr>
            <p:cNvPr id="100" name=""/>
            <p:cNvSpPr/>
            <p:nvPr/>
          </p:nvSpPr>
          <p:spPr>
            <a:xfrm>
              <a:off x="1212840" y="1994040"/>
              <a:ext cx="279360" cy="228600"/>
            </a:xfrm>
            <a:prstGeom prst="rect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2840" y="2387520"/>
              <a:ext cx="279360" cy="228600"/>
            </a:xfrm>
            <a:prstGeom prst="rect">
              <a:avLst/>
            </a:prstGeom>
            <a:solidFill>
              <a:srgbClr val="fafd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12840" y="2781360"/>
              <a:ext cx="279360" cy="22860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420053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8320" y="185256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8320" y="224784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98320" y="264168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262040" y="1262160"/>
            <a:ext cx="1643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00" y="64911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0760" y="190440"/>
          <a:ext cx="998208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190440"/>
                    <a:ext cx="998208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03720" y="434880"/>
            <a:ext cx="39081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Group (%) Cadaver Donor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33640" y="990720"/>
            <a:ext cx="8291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69240" y="1362240"/>
            <a:ext cx="22885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New Zealand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2840" y="1994040"/>
            <a:ext cx="279360" cy="22860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2840" y="2387520"/>
            <a:ext cx="279360" cy="228600"/>
          </a:xfrm>
          <a:prstGeom prst="rect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2840" y="2781360"/>
            <a:ext cx="279360" cy="22860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420053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8920" y="1839960"/>
            <a:ext cx="1614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6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3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69240" y="2220840"/>
            <a:ext cx="15249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4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69240" y="2641680"/>
            <a:ext cx="15249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4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800" y="649116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39680"/>
          <a:ext cx="99820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9680"/>
                    <a:ext cx="99820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720" y="446040"/>
            <a:ext cx="812628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and Gender Distribution of Donor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2840" y="1006560"/>
            <a:ext cx="8291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59160" y="1832040"/>
            <a:ext cx="2206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12840" y="1852560"/>
            <a:ext cx="1143000" cy="1285200"/>
            <a:chOff x="1212840" y="1852560"/>
            <a:chExt cx="1143000" cy="1285200"/>
          </a:xfrm>
        </p:grpSpPr>
        <p:sp>
          <p:nvSpPr>
            <p:cNvPr id="126" name=""/>
            <p:cNvSpPr/>
            <p:nvPr/>
          </p:nvSpPr>
          <p:spPr>
            <a:xfrm>
              <a:off x="1212840" y="1994040"/>
              <a:ext cx="279360" cy="228600"/>
            </a:xfrm>
            <a:prstGeom prst="rect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2840" y="2387520"/>
              <a:ext cx="279360" cy="228600"/>
            </a:xfrm>
            <a:prstGeom prst="rect">
              <a:avLst/>
            </a:prstGeom>
            <a:solidFill>
              <a:srgbClr val="fafd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12840" y="2781360"/>
              <a:ext cx="279360" cy="22860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420053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98320" y="185256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8320" y="224784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98320" y="264168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460040" y="1270080"/>
            <a:ext cx="1249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2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123840"/>
          <a:ext cx="99820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840"/>
                    <a:ext cx="99820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6280" y="420840"/>
            <a:ext cx="812628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and Gender Distribution of Donor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6640" y="990720"/>
            <a:ext cx="8291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88960" y="1825560"/>
            <a:ext cx="2206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12840" y="1852560"/>
            <a:ext cx="1143000" cy="1285200"/>
            <a:chOff x="1212840" y="1852560"/>
            <a:chExt cx="1143000" cy="1285200"/>
          </a:xfrm>
        </p:grpSpPr>
        <p:sp>
          <p:nvSpPr>
            <p:cNvPr id="140" name=""/>
            <p:cNvSpPr/>
            <p:nvPr/>
          </p:nvSpPr>
          <p:spPr>
            <a:xfrm>
              <a:off x="1212840" y="1994040"/>
              <a:ext cx="279360" cy="228600"/>
            </a:xfrm>
            <a:prstGeom prst="rect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2840" y="2387520"/>
              <a:ext cx="279360" cy="228600"/>
            </a:xfrm>
            <a:prstGeom prst="rect">
              <a:avLst/>
            </a:prstGeom>
            <a:solidFill>
              <a:srgbClr val="fafd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2840" y="2781360"/>
              <a:ext cx="279360" cy="228600"/>
            </a:xfrm>
            <a:prstGeom prst="rect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420053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98320" y="185256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98320" y="224784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98320" y="264168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262040" y="1263600"/>
            <a:ext cx="1643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4160" y="6400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 Black"/>
              </a:rPr>
              <a:t>Figur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1999-03-25T06:16:33Z</cp:lastPrinted>
  <dcterms:modified xsi:type="dcterms:W3CDTF">2003-07-22T02:37:00Z</dcterms:modified>
  <cp:revision>526</cp:revision>
  <dc:subject/>
  <dc:title>Excell</dc:title>
</cp:coreProperties>
</file>