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10288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d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6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663760" y="6553080"/>
            <a:ext cx="1121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© ANZOD Regi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785520" y="6454800"/>
            <a:ext cx="428400" cy="324000"/>
            <a:chOff x="9785520" y="6454800"/>
            <a:chExt cx="428400" cy="324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978552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9785520" y="6454800"/>
              <a:ext cx="42840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00200" y="689040"/>
          <a:ext cx="913284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689040"/>
                    <a:ext cx="91328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9360" y="581040"/>
            <a:ext cx="10150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 Black"/>
              </a:rPr>
              <a:t>International Donor Statistics 2000 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838080" y="1067400"/>
            <a:ext cx="914400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2600" y="6299280"/>
            <a:ext cx="973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3400" y="1498680"/>
            <a:ext cx="1904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8600" y="1494000"/>
            <a:ext cx="203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Donors  PM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58560" y="5241960"/>
            <a:ext cx="6417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Scandia Transplant</a:t>
            </a:r>
            <a:r>
              <a:rPr b="0" lang="en-US" sz="1900" spc="-1" strike="noStrike">
                <a:solidFill>
                  <a:srgbClr val="ffff99"/>
                </a:solidFill>
                <a:latin typeface="Arial"/>
              </a:rPr>
              <a:t>:  Denmark, Finland, Norway, Swed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88960" y="5607000"/>
            <a:ext cx="5770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Source: Council of Europe Newsletter Transplant 20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14400" y="137160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2465280" y="1049400"/>
            <a:ext cx="46864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 1989 - 2000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4880" y="4867200"/>
            <a:ext cx="13190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238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65280" y="514440"/>
            <a:ext cx="46864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Blood Group of Donors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4880" y="164160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219320" y="135576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5576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462040" y="1047600"/>
            <a:ext cx="5257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 1993 - 2000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60680" y="4865760"/>
            <a:ext cx="113436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n=3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7880" y="538200"/>
            <a:ext cx="4686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Blood Group of Donors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57480" y="1652760"/>
            <a:ext cx="5867280" cy="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58680" y="202680"/>
            <a:ext cx="654660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1320" y="635040"/>
          <a:ext cx="8342280" cy="54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635040"/>
                    <a:ext cx="834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146240" y="1341360"/>
            <a:ext cx="81421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05640" y="16527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idn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1120" y="1609560"/>
            <a:ext cx="30456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31120" y="1925640"/>
            <a:ext cx="304560" cy="228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3520" y="1511280"/>
            <a:ext cx="20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 *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96240" y="1827360"/>
            <a:ext cx="22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78160" y="5562720"/>
            <a:ext cx="5764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ncludes kidneys donated from New Zeal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965160" y="887400"/>
          <a:ext cx="8328240" cy="54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87400"/>
                    <a:ext cx="8328240" cy="54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4360" y="217080"/>
            <a:ext cx="6584760" cy="98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New Zealand 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41360"/>
            <a:ext cx="80773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1240" y="163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idn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00800" y="1490760"/>
            <a:ext cx="2794680" cy="767160"/>
            <a:chOff x="6400800" y="1490760"/>
            <a:chExt cx="2794680" cy="767160"/>
          </a:xfrm>
        </p:grpSpPr>
        <p:sp>
          <p:nvSpPr>
            <p:cNvPr id="167" name=""/>
            <p:cNvSpPr/>
            <p:nvPr/>
          </p:nvSpPr>
          <p:spPr>
            <a:xfrm>
              <a:off x="6400800" y="1620720"/>
              <a:ext cx="304920" cy="2286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936800"/>
              <a:ext cx="304920" cy="228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7920" y="149076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Waiting List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20640" y="1828800"/>
              <a:ext cx="2274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x Performed *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34880" y="6014160"/>
            <a:ext cx="919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included kidneys donated to Australia: 1996 (1) 1997 (2) 1998 (4) 1999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123920" y="824040"/>
          <a:ext cx="8332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824040"/>
                    <a:ext cx="8332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84200" y="95724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143000" y="1509480"/>
            <a:ext cx="7840800" cy="140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19520" y="1981080"/>
            <a:ext cx="204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(1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90920" y="1981080"/>
            <a:ext cx="380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ey Transplants (3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720" y="48564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Kidney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938160" y="825480"/>
          <a:ext cx="833760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825480"/>
                    <a:ext cx="833760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025640" y="198108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(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8840" y="1981080"/>
            <a:ext cx="429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dney Transplants (75) 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87360" y="95724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New Zealand 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143000" y="1525320"/>
            <a:ext cx="7840800" cy="140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44240" y="498600"/>
            <a:ext cx="37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Kidney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22520" y="1273320"/>
            <a:ext cx="3143160" cy="539424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19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193 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retrieved 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retrieved  3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transplanted 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en bloc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Double adult  1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3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Transplanted  3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(350 Recipients Transpla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7480" y="1273320"/>
            <a:ext cx="3200400" cy="539424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4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41 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s not retrieved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retrieved  8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Kidney not transplanted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spcBef>
                <a:spcPts val="201"/>
              </a:spcBef>
              <a:spcAft>
                <a:spcPts val="99"/>
              </a:spcAft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Kidneys Transplanted  7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(75 Recipients Transpla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90360" y="3832200"/>
            <a:ext cx="260280" cy="733320"/>
            <a:chOff x="1890360" y="3832200"/>
            <a:chExt cx="260280" cy="733320"/>
          </a:xfrm>
        </p:grpSpPr>
        <p:sp>
          <p:nvSpPr>
            <p:cNvPr id="189" name=""/>
            <p:cNvSpPr/>
            <p:nvPr/>
          </p:nvSpPr>
          <p:spPr>
            <a:xfrm flipH="1" flipV="1">
              <a:off x="1890360" y="38322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90720" y="38322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891800" y="5006880"/>
            <a:ext cx="228600" cy="838080"/>
            <a:chOff x="1891800" y="5006880"/>
            <a:chExt cx="228600" cy="838080"/>
          </a:xfrm>
        </p:grpSpPr>
        <p:sp>
          <p:nvSpPr>
            <p:cNvPr id="192" name=""/>
            <p:cNvSpPr/>
            <p:nvPr/>
          </p:nvSpPr>
          <p:spPr>
            <a:xfrm flipH="1" flipV="1">
              <a:off x="1891800" y="50068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2160" y="50130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700600" y="3843000"/>
            <a:ext cx="261360" cy="746640"/>
            <a:chOff x="5700600" y="3843000"/>
            <a:chExt cx="261360" cy="746640"/>
          </a:xfrm>
        </p:grpSpPr>
        <p:sp>
          <p:nvSpPr>
            <p:cNvPr id="195" name=""/>
            <p:cNvSpPr/>
            <p:nvPr/>
          </p:nvSpPr>
          <p:spPr>
            <a:xfrm flipH="1" flipV="1">
              <a:off x="5701680" y="384300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700600" y="384336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687640" y="5024520"/>
            <a:ext cx="228600" cy="838080"/>
            <a:chOff x="5687640" y="5024520"/>
            <a:chExt cx="228600" cy="838080"/>
          </a:xfrm>
        </p:grpSpPr>
        <p:sp>
          <p:nvSpPr>
            <p:cNvPr id="198" name=""/>
            <p:cNvSpPr/>
            <p:nvPr/>
          </p:nvSpPr>
          <p:spPr>
            <a:xfrm flipH="1" flipV="1">
              <a:off x="5687640" y="50245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88000" y="50245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90360" y="1672920"/>
            <a:ext cx="228600" cy="1808640"/>
            <a:chOff x="1890360" y="1672920"/>
            <a:chExt cx="228600" cy="1808640"/>
          </a:xfrm>
        </p:grpSpPr>
        <p:grpSp>
          <p:nvGrpSpPr>
            <p:cNvPr id="201" name=""/>
            <p:cNvGrpSpPr/>
            <p:nvPr/>
          </p:nvGrpSpPr>
          <p:grpSpPr>
            <a:xfrm>
              <a:off x="1890360" y="1672920"/>
              <a:ext cx="228600" cy="665640"/>
              <a:chOff x="1890360" y="1672920"/>
              <a:chExt cx="228600" cy="665640"/>
            </a:xfrm>
          </p:grpSpPr>
          <p:sp>
            <p:nvSpPr>
              <p:cNvPr id="202" name=""/>
              <p:cNvSpPr/>
              <p:nvPr/>
            </p:nvSpPr>
            <p:spPr>
              <a:xfrm flipH="1" flipV="1">
                <a:off x="1890360" y="16729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890720" y="16732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flipH="1" flipV="1">
              <a:off x="1890360" y="28159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0720" y="28162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00240" y="1672920"/>
            <a:ext cx="228600" cy="1808640"/>
            <a:chOff x="5700240" y="1672920"/>
            <a:chExt cx="228600" cy="1808640"/>
          </a:xfrm>
        </p:grpSpPr>
        <p:grpSp>
          <p:nvGrpSpPr>
            <p:cNvPr id="207" name=""/>
            <p:cNvGrpSpPr/>
            <p:nvPr/>
          </p:nvGrpSpPr>
          <p:grpSpPr>
            <a:xfrm>
              <a:off x="5700240" y="1672920"/>
              <a:ext cx="228600" cy="665640"/>
              <a:chOff x="5700240" y="1672920"/>
              <a:chExt cx="228600" cy="665640"/>
            </a:xfrm>
          </p:grpSpPr>
          <p:sp>
            <p:nvSpPr>
              <p:cNvPr id="208" name=""/>
              <p:cNvSpPr/>
              <p:nvPr/>
            </p:nvSpPr>
            <p:spPr>
              <a:xfrm flipH="1" flipV="1">
                <a:off x="5700240" y="16729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00600" y="16732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H="1" flipV="1">
              <a:off x="5700240" y="28159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0600" y="28162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793880" y="716040"/>
            <a:ext cx="278604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97640" y="716040"/>
            <a:ext cx="278604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93400" y="173160"/>
            <a:ext cx="6017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Kidney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71640" y="214200"/>
            <a:ext cx="65469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   1996 - 2000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98640" y="687240"/>
          <a:ext cx="8343720" cy="558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687240"/>
                    <a:ext cx="8343720" cy="558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43000" y="1255680"/>
            <a:ext cx="81532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1920" y="151272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20040" y="1469880"/>
            <a:ext cx="30456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0040" y="1785960"/>
            <a:ext cx="30456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67240" y="1386000"/>
            <a:ext cx="2032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iting List *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50320" y="1701720"/>
            <a:ext cx="22791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x Performed *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19160" y="214200"/>
            <a:ext cx="65469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New Zealand   1999 - 2000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58880" y="847800"/>
          <a:ext cx="695664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8880" y="847800"/>
                    <a:ext cx="6956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 flipV="1">
            <a:off x="1828800" y="1252080"/>
            <a:ext cx="678960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78480" y="151272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931000" y="1374840"/>
            <a:ext cx="2809440" cy="743400"/>
            <a:chOff x="5931000" y="1374840"/>
            <a:chExt cx="2809440" cy="743400"/>
          </a:xfrm>
        </p:grpSpPr>
        <p:sp>
          <p:nvSpPr>
            <p:cNvPr id="231" name=""/>
            <p:cNvSpPr/>
            <p:nvPr/>
          </p:nvSpPr>
          <p:spPr>
            <a:xfrm>
              <a:off x="5931000" y="1459080"/>
              <a:ext cx="304560" cy="2286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31000" y="1774800"/>
              <a:ext cx="304560" cy="2286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8560" y="1374840"/>
              <a:ext cx="203220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Waiting List *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61280" y="1690560"/>
              <a:ext cx="22791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x Performed *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114800" y="7086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120" y="387000"/>
            <a:ext cx="1015020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Primary Cadaver Graft Survival   1994 - 1999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ccording to Donor Age   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9000" y="1365120"/>
            <a:ext cx="9023400" cy="10008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19000" y="1973160"/>
          <a:ext cx="9204480" cy="48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973160"/>
                    <a:ext cx="920448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905120" y="409176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og Ra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 - 9   vs  10 - 49  p = 0.055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38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 - 49 vs  50 - 59  p = 0.00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 - 49 vs   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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0    p &lt;0.0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41680" y="17064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4880" y="17064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63160" y="2927520"/>
            <a:ext cx="1882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daver  Do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 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24680" y="4594320"/>
            <a:ext cx="3477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Symbol"/>
                <a:ea typeface="Symbol"/>
              </a:rPr>
              <a:t>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52280"/>
          <a:ext cx="998208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9820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2240" y="701640"/>
            <a:ext cx="5943600" cy="5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Group of Cadaver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265400"/>
            <a:ext cx="754380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14680" y="1376280"/>
            <a:ext cx="1721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Australia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219320" y="1600200"/>
            <a:ext cx="2040840" cy="1299240"/>
            <a:chOff x="1219320" y="1600200"/>
            <a:chExt cx="2040840" cy="1299240"/>
          </a:xfrm>
        </p:grpSpPr>
        <p:sp>
          <p:nvSpPr>
            <p:cNvPr id="57" name=""/>
            <p:cNvSpPr/>
            <p:nvPr/>
          </p:nvSpPr>
          <p:spPr>
            <a:xfrm>
              <a:off x="1219320" y="175572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9320" y="2149560"/>
              <a:ext cx="27936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9320" y="2543040"/>
              <a:ext cx="27936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94360" y="1600200"/>
              <a:ext cx="176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196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78960" y="1984320"/>
              <a:ext cx="1680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164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78960" y="2403360"/>
              <a:ext cx="1680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196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58680" y="202680"/>
            <a:ext cx="654660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 anchorCtr="1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Organ Donor Age and Early Non-Function  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Grafts   1994 - 1999</a:t>
            </a: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523880" y="577800"/>
          <a:ext cx="834552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77800"/>
                    <a:ext cx="834552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158840" y="1255680"/>
            <a:ext cx="81424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46680" y="1492200"/>
            <a:ext cx="19573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%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648400"/>
            <a:ext cx="97534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Op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(1741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28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359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250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310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341          244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10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15120" y="1491480"/>
            <a:ext cx="13968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80280" y="1230840"/>
            <a:ext cx="351000" cy="73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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6039000"/>
            <a:ext cx="97534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GF/Nev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13/3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31/2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33/3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47/7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67/11       71/11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25/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Primary Cadaver Graft Survival   1994 - 1999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ccording to Cause of Donor Dea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378080"/>
            <a:ext cx="858528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66640" y="1905120"/>
          <a:ext cx="92296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905120"/>
                    <a:ext cx="92296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88390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21320" y="4341960"/>
            <a:ext cx="18702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og Rank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= 0.02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4038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35320" y="16398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08480" y="16398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42192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Primary Cadaver Graft Survival   1994 - 1999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ccording to Cause of Donor Gender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378080"/>
            <a:ext cx="858528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66640" y="1905120"/>
          <a:ext cx="92296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905120"/>
                    <a:ext cx="92296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8390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21320" y="4334040"/>
            <a:ext cx="167652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 Ra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=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4038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35320" y="16398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08480" y="16398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1760" y="42192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Primary Cadaver Graft Survival   1994 - 1999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ccording to Donor Gender and Cause of Death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25560" y="1378080"/>
            <a:ext cx="858528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627120" y="1905120"/>
          <a:ext cx="92296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905120"/>
                    <a:ext cx="92296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88390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06400" y="4605480"/>
            <a:ext cx="4457880" cy="6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Log Ra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spcAft>
                <a:spcPts val="425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CVD vs M </a:t>
            </a:r>
            <a:r>
              <a:rPr b="1" lang="en-US" sz="1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Trauma  p = 0.029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4038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29440" y="3521160"/>
            <a:ext cx="2548080" cy="14810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75720" y="3808440"/>
            <a:ext cx="228600" cy="934920"/>
            <a:chOff x="7875720" y="3808440"/>
            <a:chExt cx="228600" cy="934920"/>
          </a:xfrm>
        </p:grpSpPr>
        <p:sp>
          <p:nvSpPr>
            <p:cNvPr id="281" name=""/>
            <p:cNvSpPr/>
            <p:nvPr/>
          </p:nvSpPr>
          <p:spPr>
            <a:xfrm>
              <a:off x="7875720" y="38084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75720" y="44179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75720" y="4743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75720" y="40957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41680" y="17064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46600" y="17064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1760" y="421920"/>
            <a:ext cx="101505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Primary Cadaver Graft Survival   1994 - 1999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ccording to Total Ischaemia (Hours)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25560" y="1378080"/>
            <a:ext cx="858528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27120" y="1905120"/>
          <a:ext cx="9229680" cy="48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905120"/>
                    <a:ext cx="9229680" cy="48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88390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400" y="4385520"/>
            <a:ext cx="3657600" cy="10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 Ra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 - 18 vs 18 - 24  p &lt;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 - 12 vs 18 - 24  p = 0.0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56600" y="3564000"/>
            <a:ext cx="2166840" cy="15415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78400" y="17064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21120" y="17064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7360" y="3154680"/>
            <a:ext cx="23781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AU" sz="1900" spc="-1" strike="noStrike">
                <a:solidFill>
                  <a:srgbClr val="ffffff"/>
                </a:solidFill>
                <a:latin typeface="Arial"/>
              </a:rPr>
              <a:t>Ischaemia Hou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74720" y="4626720"/>
            <a:ext cx="362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477720" y="1820880"/>
          <a:ext cx="9699840" cy="51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1820880"/>
                    <a:ext cx="969984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" y="152280"/>
            <a:ext cx="101505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Primary Cadaver Graft Survival   1990 - 1999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ccording to Delayed Graft Function</a:t>
            </a:r>
            <a:br>
              <a:rPr sz="2600"/>
            </a:br>
            <a:r>
              <a:rPr b="0" i="1" lang="en-US" sz="2400" spc="-1" strike="noStrike">
                <a:solidFill>
                  <a:srgbClr val="fafd00"/>
                </a:solidFill>
                <a:latin typeface="Arial Black"/>
              </a:rPr>
              <a:t>Excluding Grafts Never Functioning</a:t>
            </a:r>
            <a:r>
              <a:rPr b="1" lang="en-US" sz="27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4520" y="1465200"/>
            <a:ext cx="896112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23280" y="3165480"/>
            <a:ext cx="19047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Graft Fun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155080" y="39744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590840" y="3374640"/>
            <a:ext cx="5059080" cy="2288520"/>
            <a:chOff x="1590840" y="3374640"/>
            <a:chExt cx="5059080" cy="2288520"/>
          </a:xfrm>
        </p:grpSpPr>
        <p:grpSp>
          <p:nvGrpSpPr>
            <p:cNvPr id="307" name=""/>
            <p:cNvGrpSpPr/>
            <p:nvPr/>
          </p:nvGrpSpPr>
          <p:grpSpPr>
            <a:xfrm>
              <a:off x="1590840" y="3374640"/>
              <a:ext cx="5059080" cy="2288520"/>
              <a:chOff x="1590840" y="3374640"/>
              <a:chExt cx="5059080" cy="2288520"/>
            </a:xfrm>
          </p:grpSpPr>
          <p:sp>
            <p:nvSpPr>
              <p:cNvPr id="308" name=""/>
              <p:cNvSpPr/>
              <p:nvPr/>
            </p:nvSpPr>
            <p:spPr>
              <a:xfrm>
                <a:off x="1590840" y="4353120"/>
                <a:ext cx="505908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mmed Func v DGF    7 days  p = 0.5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mmed Func v DGF &gt; 7 days  p &lt;0.0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GF   7 days v DGF &gt; 7 days p = 0.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732120" y="3374640"/>
                <a:ext cx="34236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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066040" y="493668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678400" y="1706400"/>
            <a:ext cx="2115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Graft  Surviv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21120" y="1706400"/>
            <a:ext cx="1397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981000" y="469800"/>
          <a:ext cx="8332920" cy="54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469800"/>
                    <a:ext cx="833292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276720" y="82872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ustralia  2000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1523880"/>
            <a:ext cx="81532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06840" y="1836720"/>
            <a:ext cx="19742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onors (14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70360" y="2398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36280" y="46980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Liver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59560" y="2398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2)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96280" y="2398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90720" y="6283440"/>
            <a:ext cx="1810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00240" y="23986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(1)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79360" y="5943600"/>
            <a:ext cx="6309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AU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Number of livers transplanted into two recip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981000" y="444600"/>
          <a:ext cx="8332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444600"/>
                    <a:ext cx="8332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276720" y="828720"/>
            <a:ext cx="390816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New Zealand  2000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523880"/>
            <a:ext cx="815328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96400" y="1849320"/>
            <a:ext cx="18111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Donors (3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423600" y="488880"/>
            <a:ext cx="34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afd00"/>
                </a:solidFill>
                <a:latin typeface="Arial Black"/>
              </a:rPr>
              <a:t>Age of Liver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02716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60480" y="1395360"/>
            <a:ext cx="3143160" cy="519588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87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retrieved  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retrieved 14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transplanted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Transplanted 142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* 147 recipients transpla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5800" y="1395360"/>
            <a:ext cx="3200400" cy="519588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40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retrieved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retrieved 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ivers not transplanted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ivers Transplanted  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34  recipients transpla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128320" y="3954600"/>
            <a:ext cx="260280" cy="733320"/>
            <a:chOff x="2128320" y="3954600"/>
            <a:chExt cx="260280" cy="733320"/>
          </a:xfrm>
        </p:grpSpPr>
        <p:sp>
          <p:nvSpPr>
            <p:cNvPr id="335" name=""/>
            <p:cNvSpPr/>
            <p:nvPr/>
          </p:nvSpPr>
          <p:spPr>
            <a:xfrm flipH="1" flipV="1">
              <a:off x="2128320" y="39546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28680" y="39546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2130120" y="5129280"/>
            <a:ext cx="228600" cy="838080"/>
            <a:chOff x="2130120" y="5129280"/>
            <a:chExt cx="228600" cy="838080"/>
          </a:xfrm>
        </p:grpSpPr>
        <p:sp>
          <p:nvSpPr>
            <p:cNvPr id="338" name=""/>
            <p:cNvSpPr/>
            <p:nvPr/>
          </p:nvSpPr>
          <p:spPr>
            <a:xfrm flipH="1" flipV="1">
              <a:off x="2130120" y="51292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30480" y="51354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938920" y="3965040"/>
            <a:ext cx="261360" cy="746640"/>
            <a:chOff x="5938920" y="3965040"/>
            <a:chExt cx="261360" cy="746640"/>
          </a:xfrm>
        </p:grpSpPr>
        <p:sp>
          <p:nvSpPr>
            <p:cNvPr id="341" name=""/>
            <p:cNvSpPr/>
            <p:nvPr/>
          </p:nvSpPr>
          <p:spPr>
            <a:xfrm flipH="1" flipV="1">
              <a:off x="5940000" y="3965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938920" y="396540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925600" y="5146200"/>
            <a:ext cx="228600" cy="838800"/>
            <a:chOff x="5925600" y="5146200"/>
            <a:chExt cx="228600" cy="838800"/>
          </a:xfrm>
        </p:grpSpPr>
        <p:sp>
          <p:nvSpPr>
            <p:cNvPr id="344" name=""/>
            <p:cNvSpPr/>
            <p:nvPr/>
          </p:nvSpPr>
          <p:spPr>
            <a:xfrm flipH="1" flipV="1">
              <a:off x="5925600" y="514620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25960" y="514656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28320" y="1794960"/>
            <a:ext cx="228600" cy="1808640"/>
            <a:chOff x="2128320" y="1794960"/>
            <a:chExt cx="228600" cy="1808640"/>
          </a:xfrm>
        </p:grpSpPr>
        <p:grpSp>
          <p:nvGrpSpPr>
            <p:cNvPr id="347" name=""/>
            <p:cNvGrpSpPr/>
            <p:nvPr/>
          </p:nvGrpSpPr>
          <p:grpSpPr>
            <a:xfrm>
              <a:off x="2128320" y="1794960"/>
              <a:ext cx="228600" cy="665640"/>
              <a:chOff x="2128320" y="1794960"/>
              <a:chExt cx="228600" cy="665640"/>
            </a:xfrm>
          </p:grpSpPr>
          <p:sp>
            <p:nvSpPr>
              <p:cNvPr id="348" name=""/>
              <p:cNvSpPr/>
              <p:nvPr/>
            </p:nvSpPr>
            <p:spPr>
              <a:xfrm flipH="1" flipV="1">
                <a:off x="212832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12868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 flipH="1" flipV="1">
              <a:off x="212832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2868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938560" y="1794960"/>
            <a:ext cx="228600" cy="1808640"/>
            <a:chOff x="5938560" y="1794960"/>
            <a:chExt cx="228600" cy="1808640"/>
          </a:xfrm>
        </p:grpSpPr>
        <p:grpSp>
          <p:nvGrpSpPr>
            <p:cNvPr id="353" name=""/>
            <p:cNvGrpSpPr/>
            <p:nvPr/>
          </p:nvGrpSpPr>
          <p:grpSpPr>
            <a:xfrm>
              <a:off x="5938560" y="1794960"/>
              <a:ext cx="228600" cy="665640"/>
              <a:chOff x="5938560" y="1794960"/>
              <a:chExt cx="228600" cy="665640"/>
            </a:xfrm>
          </p:grpSpPr>
          <p:sp>
            <p:nvSpPr>
              <p:cNvPr id="354" name=""/>
              <p:cNvSpPr/>
              <p:nvPr/>
            </p:nvSpPr>
            <p:spPr>
              <a:xfrm flipH="1" flipV="1">
                <a:off x="593856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3892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 flipH="1" flipV="1">
              <a:off x="593856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3892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398680" y="249120"/>
            <a:ext cx="5773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Liver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3092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1066680" y="907920"/>
          <a:ext cx="833148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07920"/>
                    <a:ext cx="833148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29880" y="387360"/>
            <a:ext cx="6691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1996 - 2000</a:t>
            </a:r>
            <a:br>
              <a:rPr sz="27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22480" y="1876320"/>
            <a:ext cx="1058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568920" y="1703520"/>
            <a:ext cx="2796840" cy="743400"/>
            <a:chOff x="6568920" y="1703520"/>
            <a:chExt cx="2796840" cy="743400"/>
          </a:xfrm>
        </p:grpSpPr>
        <p:sp>
          <p:nvSpPr>
            <p:cNvPr id="365" name=""/>
            <p:cNvSpPr/>
            <p:nvPr/>
          </p:nvSpPr>
          <p:spPr>
            <a:xfrm>
              <a:off x="6568920" y="1787400"/>
              <a:ext cx="30492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68920" y="2103480"/>
              <a:ext cx="304920" cy="228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03880" y="1703520"/>
              <a:ext cx="184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Waiting List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86600" y="2019240"/>
              <a:ext cx="22791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x Performed **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417040" y="5900760"/>
            <a:ext cx="58071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s hearts donated from New Zea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39760" y="1596600"/>
            <a:ext cx="809172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22716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16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5840" y="469440"/>
            <a:ext cx="82915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2480" y="107640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4240" y="180180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5840" y="1679400"/>
            <a:ext cx="1143000" cy="1285200"/>
            <a:chOff x="915840" y="1679400"/>
            <a:chExt cx="1143000" cy="1285200"/>
          </a:xfrm>
        </p:grpSpPr>
        <p:sp>
          <p:nvSpPr>
            <p:cNvPr id="69" name=""/>
            <p:cNvSpPr/>
            <p:nvPr/>
          </p:nvSpPr>
          <p:spPr>
            <a:xfrm>
              <a:off x="915840" y="182052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5840" y="2214360"/>
              <a:ext cx="27936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15840" y="2608200"/>
              <a:ext cx="27936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01320" y="167940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01320" y="20746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01320" y="246852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60040" y="1338120"/>
            <a:ext cx="1249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1030320" y="909720"/>
          <a:ext cx="8331120" cy="54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909720"/>
                    <a:ext cx="833112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240" y="387360"/>
            <a:ext cx="7219800" cy="4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32280" y="1890720"/>
            <a:ext cx="33458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/Lungs - 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568920" y="1749600"/>
            <a:ext cx="2895840" cy="758520"/>
            <a:chOff x="6568920" y="1749600"/>
            <a:chExt cx="2895840" cy="758520"/>
          </a:xfrm>
        </p:grpSpPr>
        <p:sp>
          <p:nvSpPr>
            <p:cNvPr id="376" name=""/>
            <p:cNvSpPr/>
            <p:nvPr/>
          </p:nvSpPr>
          <p:spPr>
            <a:xfrm>
              <a:off x="6568920" y="1833480"/>
              <a:ext cx="304920" cy="22860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8920" y="2149560"/>
              <a:ext cx="304920" cy="2286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00280" y="1749600"/>
              <a:ext cx="19209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Waiting List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3720" y="2065320"/>
              <a:ext cx="23810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Tx Performed *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318320" y="5915160"/>
            <a:ext cx="76388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cludes heart/lung and lungs donated from New Zealan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014480" y="1596600"/>
            <a:ext cx="809136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887400" y="547560"/>
          <a:ext cx="8318520" cy="56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547560"/>
                    <a:ext cx="831852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28520" y="372960"/>
            <a:ext cx="653580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New Zealand 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946080" y="1596600"/>
            <a:ext cx="809172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21040" y="2108160"/>
            <a:ext cx="10584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Hea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594480" y="1795320"/>
            <a:ext cx="2895840" cy="758880"/>
            <a:chOff x="6594480" y="1795320"/>
            <a:chExt cx="2895840" cy="758880"/>
          </a:xfrm>
        </p:grpSpPr>
        <p:sp>
          <p:nvSpPr>
            <p:cNvPr id="388" name=""/>
            <p:cNvSpPr/>
            <p:nvPr/>
          </p:nvSpPr>
          <p:spPr>
            <a:xfrm>
              <a:off x="6594480" y="1879560"/>
              <a:ext cx="304920" cy="22860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4480" y="2195640"/>
              <a:ext cx="304920" cy="228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25840" y="1795320"/>
              <a:ext cx="2035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Waiting List 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09280" y="2111400"/>
              <a:ext cx="238104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Tx Performed *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171880" y="5288040"/>
            <a:ext cx="5985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rce of waiting list - NZ Donor Coordin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06600" y="5796000"/>
            <a:ext cx="55148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included hearts donated to Austral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96 (1), 1997 (2), 1998 (3), 1999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1093680" y="565200"/>
          <a:ext cx="831852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565200"/>
                    <a:ext cx="83185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01440" y="393840"/>
            <a:ext cx="656100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New Zealand 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13120" y="2114640"/>
            <a:ext cx="11282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Lu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543720" y="1795320"/>
            <a:ext cx="2814480" cy="758880"/>
            <a:chOff x="6543720" y="1795320"/>
            <a:chExt cx="2814480" cy="758880"/>
          </a:xfrm>
        </p:grpSpPr>
        <p:sp>
          <p:nvSpPr>
            <p:cNvPr id="399" name=""/>
            <p:cNvSpPr/>
            <p:nvPr/>
          </p:nvSpPr>
          <p:spPr>
            <a:xfrm>
              <a:off x="6543720" y="1879560"/>
              <a:ext cx="304920" cy="22860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43720" y="2195640"/>
              <a:ext cx="304920" cy="228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75080" y="1795320"/>
              <a:ext cx="203508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Waiting List 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57800" y="2111400"/>
              <a:ext cx="230040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Tx Performed**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268720" y="5286240"/>
            <a:ext cx="60634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rce of waiting list -  NZ Donor Coordin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1143000" y="1596600"/>
            <a:ext cx="8091360" cy="32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01120" y="5770440"/>
            <a:ext cx="60069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**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included lungs donated to Austral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996 (3), 1997 (1), 1998 (4), 1999 (2), 2000 (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008000" y="452520"/>
          <a:ext cx="8332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452520"/>
                    <a:ext cx="8332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263400" y="10476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30400" y="1509840"/>
            <a:ext cx="807696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1905120"/>
            <a:ext cx="3484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onors  (59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38320" y="89856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ustralia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15240" y="39528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Heart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928800" y="490680"/>
          <a:ext cx="833256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490680"/>
                    <a:ext cx="833256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63400" y="10476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14480" y="1514520"/>
            <a:ext cx="8129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28800" y="1881360"/>
            <a:ext cx="34844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Donors  (13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489120" y="89064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New Zealand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15240" y="39528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ge of Heart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02716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60480" y="139536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2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60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retrieved  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retrieved 6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transplanted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Transplanted  5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5800" y="139536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32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retrieved  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retrieved 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Hearts not transplanted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Hearts Transplanted  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28320" y="3954600"/>
            <a:ext cx="260280" cy="733320"/>
            <a:chOff x="2128320" y="3954600"/>
            <a:chExt cx="260280" cy="733320"/>
          </a:xfrm>
        </p:grpSpPr>
        <p:sp>
          <p:nvSpPr>
            <p:cNvPr id="426" name=""/>
            <p:cNvSpPr/>
            <p:nvPr/>
          </p:nvSpPr>
          <p:spPr>
            <a:xfrm flipH="1" flipV="1">
              <a:off x="2128320" y="39546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28680" y="39546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130120" y="5129280"/>
            <a:ext cx="228600" cy="838080"/>
            <a:chOff x="2130120" y="5129280"/>
            <a:chExt cx="228600" cy="838080"/>
          </a:xfrm>
        </p:grpSpPr>
        <p:sp>
          <p:nvSpPr>
            <p:cNvPr id="429" name=""/>
            <p:cNvSpPr/>
            <p:nvPr/>
          </p:nvSpPr>
          <p:spPr>
            <a:xfrm flipH="1" flipV="1">
              <a:off x="2130120" y="51292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30480" y="51354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938920" y="3965040"/>
            <a:ext cx="261360" cy="746640"/>
            <a:chOff x="5938920" y="3965040"/>
            <a:chExt cx="261360" cy="746640"/>
          </a:xfrm>
        </p:grpSpPr>
        <p:sp>
          <p:nvSpPr>
            <p:cNvPr id="432" name=""/>
            <p:cNvSpPr/>
            <p:nvPr/>
          </p:nvSpPr>
          <p:spPr>
            <a:xfrm flipH="1" flipV="1">
              <a:off x="5940000" y="3965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5938920" y="396540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925600" y="5146200"/>
            <a:ext cx="228600" cy="838800"/>
            <a:chOff x="5925600" y="5146200"/>
            <a:chExt cx="228600" cy="838800"/>
          </a:xfrm>
        </p:grpSpPr>
        <p:sp>
          <p:nvSpPr>
            <p:cNvPr id="435" name=""/>
            <p:cNvSpPr/>
            <p:nvPr/>
          </p:nvSpPr>
          <p:spPr>
            <a:xfrm flipH="1" flipV="1">
              <a:off x="5925600" y="514620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25960" y="514656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128320" y="1794960"/>
            <a:ext cx="228600" cy="1808640"/>
            <a:chOff x="2128320" y="1794960"/>
            <a:chExt cx="228600" cy="1808640"/>
          </a:xfrm>
        </p:grpSpPr>
        <p:grpSp>
          <p:nvGrpSpPr>
            <p:cNvPr id="438" name=""/>
            <p:cNvGrpSpPr/>
            <p:nvPr/>
          </p:nvGrpSpPr>
          <p:grpSpPr>
            <a:xfrm>
              <a:off x="2128320" y="1794960"/>
              <a:ext cx="228600" cy="665640"/>
              <a:chOff x="2128320" y="1794960"/>
              <a:chExt cx="228600" cy="665640"/>
            </a:xfrm>
          </p:grpSpPr>
          <p:sp>
            <p:nvSpPr>
              <p:cNvPr id="439" name=""/>
              <p:cNvSpPr/>
              <p:nvPr/>
            </p:nvSpPr>
            <p:spPr>
              <a:xfrm flipH="1" flipV="1">
                <a:off x="212832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12868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 flipH="1" flipV="1">
              <a:off x="212832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2868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938560" y="1794960"/>
            <a:ext cx="228600" cy="1808640"/>
            <a:chOff x="5938560" y="1794960"/>
            <a:chExt cx="228600" cy="1808640"/>
          </a:xfrm>
        </p:grpSpPr>
        <p:grpSp>
          <p:nvGrpSpPr>
            <p:cNvPr id="444" name=""/>
            <p:cNvGrpSpPr/>
            <p:nvPr/>
          </p:nvGrpSpPr>
          <p:grpSpPr>
            <a:xfrm>
              <a:off x="5938560" y="1794960"/>
              <a:ext cx="228600" cy="665640"/>
              <a:chOff x="5938560" y="1794960"/>
              <a:chExt cx="228600" cy="665640"/>
            </a:xfrm>
          </p:grpSpPr>
          <p:sp>
            <p:nvSpPr>
              <p:cNvPr id="445" name=""/>
              <p:cNvSpPr/>
              <p:nvPr/>
            </p:nvSpPr>
            <p:spPr>
              <a:xfrm flipH="1" flipV="1">
                <a:off x="593856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93892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 flipV="1">
              <a:off x="593856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3892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306160" y="249120"/>
            <a:ext cx="587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Heart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3092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02716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60480" y="139536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request for donation 1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67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Valves not retrieved 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Valves retrieved  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Valves unusable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Valves Stored   5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635800" y="139536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request for donation 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19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Valves not retrieved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Valves retrieved 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Valves not stored 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Valves Stored  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28320" y="3954600"/>
            <a:ext cx="260280" cy="733320"/>
            <a:chOff x="2128320" y="3954600"/>
            <a:chExt cx="260280" cy="733320"/>
          </a:xfrm>
        </p:grpSpPr>
        <p:sp>
          <p:nvSpPr>
            <p:cNvPr id="455" name=""/>
            <p:cNvSpPr/>
            <p:nvPr/>
          </p:nvSpPr>
          <p:spPr>
            <a:xfrm flipH="1" flipV="1">
              <a:off x="2128320" y="39546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28680" y="39546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130120" y="5129280"/>
            <a:ext cx="228600" cy="838080"/>
            <a:chOff x="2130120" y="5129280"/>
            <a:chExt cx="228600" cy="838080"/>
          </a:xfrm>
        </p:grpSpPr>
        <p:sp>
          <p:nvSpPr>
            <p:cNvPr id="458" name=""/>
            <p:cNvSpPr/>
            <p:nvPr/>
          </p:nvSpPr>
          <p:spPr>
            <a:xfrm flipH="1" flipV="1">
              <a:off x="2130120" y="51292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30480" y="51354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938920" y="3965040"/>
            <a:ext cx="261360" cy="746640"/>
            <a:chOff x="5938920" y="3965040"/>
            <a:chExt cx="261360" cy="746640"/>
          </a:xfrm>
        </p:grpSpPr>
        <p:sp>
          <p:nvSpPr>
            <p:cNvPr id="461" name=""/>
            <p:cNvSpPr/>
            <p:nvPr/>
          </p:nvSpPr>
          <p:spPr>
            <a:xfrm flipH="1" flipV="1">
              <a:off x="5940000" y="3965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938920" y="396540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925600" y="5146200"/>
            <a:ext cx="228600" cy="838800"/>
            <a:chOff x="5925600" y="5146200"/>
            <a:chExt cx="228600" cy="838800"/>
          </a:xfrm>
        </p:grpSpPr>
        <p:sp>
          <p:nvSpPr>
            <p:cNvPr id="464" name=""/>
            <p:cNvSpPr/>
            <p:nvPr/>
          </p:nvSpPr>
          <p:spPr>
            <a:xfrm flipH="1" flipV="1">
              <a:off x="5925600" y="514620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25960" y="514656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128320" y="1794960"/>
            <a:ext cx="228600" cy="1808640"/>
            <a:chOff x="2128320" y="1794960"/>
            <a:chExt cx="228600" cy="1808640"/>
          </a:xfrm>
        </p:grpSpPr>
        <p:grpSp>
          <p:nvGrpSpPr>
            <p:cNvPr id="467" name=""/>
            <p:cNvGrpSpPr/>
            <p:nvPr/>
          </p:nvGrpSpPr>
          <p:grpSpPr>
            <a:xfrm>
              <a:off x="2128320" y="1794960"/>
              <a:ext cx="228600" cy="665640"/>
              <a:chOff x="2128320" y="1794960"/>
              <a:chExt cx="228600" cy="665640"/>
            </a:xfrm>
          </p:grpSpPr>
          <p:sp>
            <p:nvSpPr>
              <p:cNvPr id="468" name=""/>
              <p:cNvSpPr/>
              <p:nvPr/>
            </p:nvSpPr>
            <p:spPr>
              <a:xfrm flipH="1" flipV="1">
                <a:off x="212832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12868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 flipH="1" flipV="1">
              <a:off x="212832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12868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938560" y="1794960"/>
            <a:ext cx="228600" cy="1808640"/>
            <a:chOff x="5938560" y="1794960"/>
            <a:chExt cx="228600" cy="1808640"/>
          </a:xfrm>
        </p:grpSpPr>
        <p:grpSp>
          <p:nvGrpSpPr>
            <p:cNvPr id="473" name=""/>
            <p:cNvGrpSpPr/>
            <p:nvPr/>
          </p:nvGrpSpPr>
          <p:grpSpPr>
            <a:xfrm>
              <a:off x="5938560" y="1794960"/>
              <a:ext cx="228600" cy="665640"/>
              <a:chOff x="5938560" y="1794960"/>
              <a:chExt cx="228600" cy="665640"/>
            </a:xfrm>
          </p:grpSpPr>
          <p:sp>
            <p:nvSpPr>
              <p:cNvPr id="474" name=""/>
              <p:cNvSpPr/>
              <p:nvPr/>
            </p:nvSpPr>
            <p:spPr>
              <a:xfrm flipH="1" flipV="1">
                <a:off x="5938560" y="179496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38920" y="179532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 flipH="1" flipV="1">
              <a:off x="5938560" y="293796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938920" y="293832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940400" y="249120"/>
            <a:ext cx="660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Heart Valve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30920" y="8254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1093680" y="406440"/>
          <a:ext cx="8331480" cy="55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3680" y="406440"/>
                    <a:ext cx="833148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2880" y="353880"/>
            <a:ext cx="39085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Lung Don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63600" y="187956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(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18960" y="90000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Australia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63680" y="1500120"/>
            <a:ext cx="7853400" cy="1440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1136520" y="388800"/>
          <a:ext cx="833148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388800"/>
                    <a:ext cx="833148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288960" y="78840"/>
            <a:ext cx="3908520" cy="4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400"/>
            </a:b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38200" y="1500120"/>
            <a:ext cx="77821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201780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51040" y="279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7840" y="353880"/>
            <a:ext cx="39085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of Lung Don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44720" y="90000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Arial Black"/>
              </a:rPr>
              <a:t>New Zealand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052720" y="682560"/>
            <a:ext cx="2786040" cy="3920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86040" y="1163520"/>
            <a:ext cx="3095640" cy="504360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6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57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retrieved 1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retrieved 16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4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5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transplanted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Transplanted  15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ouble lung 67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Single lung 21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61000" y="1163520"/>
            <a:ext cx="3151080" cy="504360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33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retrieved 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retrieved 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Lungs not transplanted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Lungs Transplanted  26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Double lung 10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(Single lung 6 recipi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130120" y="4714920"/>
            <a:ext cx="228600" cy="838080"/>
            <a:chOff x="2130120" y="4714920"/>
            <a:chExt cx="228600" cy="838080"/>
          </a:xfrm>
        </p:grpSpPr>
        <p:sp>
          <p:nvSpPr>
            <p:cNvPr id="499" name=""/>
            <p:cNvSpPr/>
            <p:nvPr/>
          </p:nvSpPr>
          <p:spPr>
            <a:xfrm flipH="1" flipV="1">
              <a:off x="2130120" y="4714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0480" y="472104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128320" y="3581280"/>
            <a:ext cx="4071960" cy="757440"/>
            <a:chOff x="2128320" y="3581280"/>
            <a:chExt cx="4071960" cy="757440"/>
          </a:xfrm>
        </p:grpSpPr>
        <p:grpSp>
          <p:nvGrpSpPr>
            <p:cNvPr id="502" name=""/>
            <p:cNvGrpSpPr/>
            <p:nvPr/>
          </p:nvGrpSpPr>
          <p:grpSpPr>
            <a:xfrm>
              <a:off x="2128320" y="3581280"/>
              <a:ext cx="260280" cy="733320"/>
              <a:chOff x="2128320" y="3581280"/>
              <a:chExt cx="260280" cy="733320"/>
            </a:xfrm>
          </p:grpSpPr>
          <p:sp>
            <p:nvSpPr>
              <p:cNvPr id="503" name=""/>
              <p:cNvSpPr/>
              <p:nvPr/>
            </p:nvSpPr>
            <p:spPr>
              <a:xfrm flipH="1" flipV="1">
                <a:off x="2128320" y="3581280"/>
                <a:ext cx="26028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128680" y="3581280"/>
                <a:ext cx="0" cy="7333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5938920" y="3592080"/>
              <a:ext cx="261360" cy="746640"/>
              <a:chOff x="5938920" y="3592080"/>
              <a:chExt cx="261360" cy="746640"/>
            </a:xfrm>
          </p:grpSpPr>
          <p:sp>
            <p:nvSpPr>
              <p:cNvPr id="506" name=""/>
              <p:cNvSpPr/>
              <p:nvPr/>
            </p:nvSpPr>
            <p:spPr>
              <a:xfrm flipH="1" flipV="1">
                <a:off x="5940000" y="3592080"/>
                <a:ext cx="26028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938920" y="3592440"/>
                <a:ext cx="1440" cy="746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5925600" y="4731840"/>
            <a:ext cx="228600" cy="838800"/>
            <a:chOff x="5925600" y="4731840"/>
            <a:chExt cx="228600" cy="838800"/>
          </a:xfrm>
        </p:grpSpPr>
        <p:sp>
          <p:nvSpPr>
            <p:cNvPr id="509" name=""/>
            <p:cNvSpPr/>
            <p:nvPr/>
          </p:nvSpPr>
          <p:spPr>
            <a:xfrm flipH="1" flipV="1">
              <a:off x="5925600" y="473184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25960" y="4732200"/>
              <a:ext cx="0" cy="838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141280" y="1536840"/>
            <a:ext cx="228600" cy="664920"/>
            <a:chOff x="2141280" y="1536840"/>
            <a:chExt cx="228600" cy="664920"/>
          </a:xfrm>
        </p:grpSpPr>
        <p:sp>
          <p:nvSpPr>
            <p:cNvPr id="512" name=""/>
            <p:cNvSpPr/>
            <p:nvPr/>
          </p:nvSpPr>
          <p:spPr>
            <a:xfrm flipH="1" flipV="1">
              <a:off x="2141280" y="15368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41640" y="15368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951160" y="1536840"/>
            <a:ext cx="228600" cy="664920"/>
            <a:chOff x="5951160" y="1536840"/>
            <a:chExt cx="228600" cy="664920"/>
          </a:xfrm>
        </p:grpSpPr>
        <p:sp>
          <p:nvSpPr>
            <p:cNvPr id="515" name=""/>
            <p:cNvSpPr/>
            <p:nvPr/>
          </p:nvSpPr>
          <p:spPr>
            <a:xfrm flipH="1" flipV="1">
              <a:off x="5951160" y="15368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51520" y="15368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115720" y="2557440"/>
            <a:ext cx="4038480" cy="664920"/>
            <a:chOff x="2115720" y="2557440"/>
            <a:chExt cx="4038480" cy="664920"/>
          </a:xfrm>
        </p:grpSpPr>
        <p:sp>
          <p:nvSpPr>
            <p:cNvPr id="518" name=""/>
            <p:cNvSpPr/>
            <p:nvPr/>
          </p:nvSpPr>
          <p:spPr>
            <a:xfrm flipH="1" flipV="1">
              <a:off x="2115720" y="2557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16080" y="25574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5925600" y="2557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25960" y="255744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41960" y="162000"/>
            <a:ext cx="55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000" spc="-1" strike="noStrike">
                <a:solidFill>
                  <a:srgbClr val="fafd00"/>
                </a:solidFill>
                <a:latin typeface="Arial Black"/>
              </a:rPr>
              <a:t>Outcome of Request for Lung Donatio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56120" y="682560"/>
            <a:ext cx="2786400" cy="3920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16200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00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69440"/>
            <a:ext cx="8547120" cy="6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65960" y="1816200"/>
            <a:ext cx="15843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41400" y="1752480"/>
            <a:ext cx="1143000" cy="1285200"/>
            <a:chOff x="941400" y="1752480"/>
            <a:chExt cx="1143000" cy="1285200"/>
          </a:xfrm>
        </p:grpSpPr>
        <p:sp>
          <p:nvSpPr>
            <p:cNvPr id="81" name=""/>
            <p:cNvSpPr/>
            <p:nvPr/>
          </p:nvSpPr>
          <p:spPr>
            <a:xfrm>
              <a:off x="941400" y="189396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1400" y="2287440"/>
              <a:ext cx="27936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1400" y="2681280"/>
              <a:ext cx="27936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26880" y="17524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26880" y="21477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6880" y="254160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262040" y="1352520"/>
            <a:ext cx="164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1400" y="1065240"/>
            <a:ext cx="8126280" cy="144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"/>
          <p:cNvGraphicFramePr/>
          <p:nvPr/>
        </p:nvGraphicFramePr>
        <p:xfrm>
          <a:off x="1179360" y="1241280"/>
          <a:ext cx="821088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241280"/>
                    <a:ext cx="821088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219320" y="1676520"/>
            <a:ext cx="784836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6440" y="1906560"/>
            <a:ext cx="154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Pancre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446880" y="1749600"/>
            <a:ext cx="2464560" cy="767160"/>
            <a:chOff x="6446880" y="1749600"/>
            <a:chExt cx="2464560" cy="767160"/>
          </a:xfrm>
        </p:grpSpPr>
        <p:sp>
          <p:nvSpPr>
            <p:cNvPr id="529" name=""/>
            <p:cNvSpPr/>
            <p:nvPr/>
          </p:nvSpPr>
          <p:spPr>
            <a:xfrm>
              <a:off x="6446880" y="1865160"/>
              <a:ext cx="304920" cy="228600"/>
            </a:xfrm>
            <a:prstGeom prst="rect">
              <a:avLst/>
            </a:prstGeom>
            <a:solidFill>
              <a:srgbClr val="00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46880" y="2181240"/>
              <a:ext cx="304920" cy="228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18840" y="174960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Waiting List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01920" y="2087640"/>
              <a:ext cx="198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x Perform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92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Waiting List vs Cadaver Transplant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1996 -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"/>
          <p:cNvGraphicFramePr/>
          <p:nvPr/>
        </p:nvGraphicFramePr>
        <p:xfrm>
          <a:off x="1112760" y="1141560"/>
          <a:ext cx="8107560" cy="55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141560"/>
                    <a:ext cx="8107560" cy="55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868320" y="1298520"/>
            <a:ext cx="859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24000" y="1974960"/>
            <a:ext cx="18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ors (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2200" y="197496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ncreas Transplants (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247760" y="1591920"/>
            <a:ext cx="7819920" cy="1116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46320" y="43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ge of Pancreas Donors</a:t>
            </a:r>
            <a:br>
              <a:rPr sz="2700"/>
            </a:br>
            <a:r>
              <a:rPr b="0" lang="en-US" sz="2700" spc="-1" strike="noStrike">
                <a:solidFill>
                  <a:srgbClr val="fafd00"/>
                </a:solidFill>
                <a:latin typeface="Arial Black"/>
              </a:rPr>
              <a:t>Australia  2000</a:t>
            </a:r>
            <a:endParaRPr b="1" lang="en-US" sz="2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886040" y="890640"/>
            <a:ext cx="278604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719360" y="1460520"/>
            <a:ext cx="31431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7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10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retrieved 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retrieved 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transplanted  8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Transplanted  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94320" y="146052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28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retrieved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retrieved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Pancreas not transplanted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Pancreas Transplanted 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987200" y="4019040"/>
            <a:ext cx="260280" cy="734040"/>
            <a:chOff x="1987200" y="4019040"/>
            <a:chExt cx="260280" cy="734040"/>
          </a:xfrm>
        </p:grpSpPr>
        <p:sp>
          <p:nvSpPr>
            <p:cNvPr id="545" name=""/>
            <p:cNvSpPr/>
            <p:nvPr/>
          </p:nvSpPr>
          <p:spPr>
            <a:xfrm flipH="1" flipV="1">
              <a:off x="1987200" y="401904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87560" y="4019400"/>
              <a:ext cx="0" cy="7336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988640" y="5194440"/>
            <a:ext cx="228600" cy="838080"/>
            <a:chOff x="1988640" y="5194440"/>
            <a:chExt cx="228600" cy="838080"/>
          </a:xfrm>
        </p:grpSpPr>
        <p:sp>
          <p:nvSpPr>
            <p:cNvPr id="548" name=""/>
            <p:cNvSpPr/>
            <p:nvPr/>
          </p:nvSpPr>
          <p:spPr>
            <a:xfrm flipH="1" flipV="1">
              <a:off x="1988640" y="519444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9000" y="520056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797440" y="4030200"/>
            <a:ext cx="261360" cy="746640"/>
            <a:chOff x="5797440" y="4030200"/>
            <a:chExt cx="261360" cy="746640"/>
          </a:xfrm>
        </p:grpSpPr>
        <p:sp>
          <p:nvSpPr>
            <p:cNvPr id="551" name=""/>
            <p:cNvSpPr/>
            <p:nvPr/>
          </p:nvSpPr>
          <p:spPr>
            <a:xfrm flipH="1" flipV="1">
              <a:off x="5798520" y="4030200"/>
              <a:ext cx="26028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5797440" y="4030560"/>
              <a:ext cx="1440" cy="746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784480" y="5211720"/>
            <a:ext cx="228600" cy="838080"/>
            <a:chOff x="5784480" y="5211720"/>
            <a:chExt cx="228600" cy="838080"/>
          </a:xfrm>
        </p:grpSpPr>
        <p:sp>
          <p:nvSpPr>
            <p:cNvPr id="554" name=""/>
            <p:cNvSpPr/>
            <p:nvPr/>
          </p:nvSpPr>
          <p:spPr>
            <a:xfrm flipH="1" flipV="1">
              <a:off x="5784480" y="52117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84840" y="52117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987200" y="1860120"/>
            <a:ext cx="228600" cy="1808640"/>
            <a:chOff x="1987200" y="1860120"/>
            <a:chExt cx="228600" cy="1808640"/>
          </a:xfrm>
        </p:grpSpPr>
        <p:grpSp>
          <p:nvGrpSpPr>
            <p:cNvPr id="557" name=""/>
            <p:cNvGrpSpPr/>
            <p:nvPr/>
          </p:nvGrpSpPr>
          <p:grpSpPr>
            <a:xfrm>
              <a:off x="1987200" y="1860120"/>
              <a:ext cx="228600" cy="665640"/>
              <a:chOff x="1987200" y="1860120"/>
              <a:chExt cx="228600" cy="665640"/>
            </a:xfrm>
          </p:grpSpPr>
          <p:sp>
            <p:nvSpPr>
              <p:cNvPr id="558" name=""/>
              <p:cNvSpPr/>
              <p:nvPr/>
            </p:nvSpPr>
            <p:spPr>
              <a:xfrm flipH="1" flipV="1">
                <a:off x="1987200" y="18601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87560" y="18604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flipH="1" flipV="1">
              <a:off x="1987200" y="30031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87560" y="30034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797080" y="1860120"/>
            <a:ext cx="228600" cy="1808640"/>
            <a:chOff x="5797080" y="1860120"/>
            <a:chExt cx="228600" cy="1808640"/>
          </a:xfrm>
        </p:grpSpPr>
        <p:grpSp>
          <p:nvGrpSpPr>
            <p:cNvPr id="563" name=""/>
            <p:cNvGrpSpPr/>
            <p:nvPr/>
          </p:nvGrpSpPr>
          <p:grpSpPr>
            <a:xfrm>
              <a:off x="5797080" y="1860120"/>
              <a:ext cx="228600" cy="665640"/>
              <a:chOff x="5797080" y="1860120"/>
              <a:chExt cx="228600" cy="665640"/>
            </a:xfrm>
          </p:grpSpPr>
          <p:sp>
            <p:nvSpPr>
              <p:cNvPr id="564" name=""/>
              <p:cNvSpPr/>
              <p:nvPr/>
            </p:nvSpPr>
            <p:spPr>
              <a:xfrm flipH="1" flipV="1">
                <a:off x="5797080" y="1860120"/>
                <a:ext cx="228600" cy="30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97440" y="1860480"/>
                <a:ext cx="0" cy="66528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5797080" y="3003120"/>
              <a:ext cx="228600" cy="30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97440" y="3003480"/>
              <a:ext cx="0" cy="6652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71080" y="290520"/>
            <a:ext cx="6310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Pancreas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89440" y="890640"/>
            <a:ext cx="2786400" cy="48240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998720" y="88740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795320" y="1457280"/>
            <a:ext cx="314352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3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15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03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retrieved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retrieved 18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transplanted 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Stored 17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Gone to Eye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70640" y="1457280"/>
            <a:ext cx="320040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5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retrieved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retrieved  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Corneas not transplante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rneas Stored 2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Gone to Eye 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050560" y="3967200"/>
            <a:ext cx="260280" cy="733320"/>
            <a:chOff x="2050560" y="3967200"/>
            <a:chExt cx="260280" cy="733320"/>
          </a:xfrm>
        </p:grpSpPr>
        <p:sp>
          <p:nvSpPr>
            <p:cNvPr id="574" name=""/>
            <p:cNvSpPr/>
            <p:nvPr/>
          </p:nvSpPr>
          <p:spPr>
            <a:xfrm flipH="1" flipV="1">
              <a:off x="2050560" y="39672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50920" y="39672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052360" y="5141880"/>
            <a:ext cx="228600" cy="838080"/>
            <a:chOff x="2052360" y="5141880"/>
            <a:chExt cx="228600" cy="838080"/>
          </a:xfrm>
        </p:grpSpPr>
        <p:sp>
          <p:nvSpPr>
            <p:cNvPr id="577" name=""/>
            <p:cNvSpPr/>
            <p:nvPr/>
          </p:nvSpPr>
          <p:spPr>
            <a:xfrm flipH="1" flipV="1">
              <a:off x="2052360" y="51418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52720" y="51480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861160" y="3978360"/>
            <a:ext cx="261360" cy="745920"/>
            <a:chOff x="5861160" y="3978360"/>
            <a:chExt cx="261360" cy="745920"/>
          </a:xfrm>
        </p:grpSpPr>
        <p:sp>
          <p:nvSpPr>
            <p:cNvPr id="580" name=""/>
            <p:cNvSpPr/>
            <p:nvPr/>
          </p:nvSpPr>
          <p:spPr>
            <a:xfrm flipH="1" flipV="1">
              <a:off x="5862240" y="397836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5861160" y="3978360"/>
              <a:ext cx="1440" cy="745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847840" y="5159520"/>
            <a:ext cx="228600" cy="838080"/>
            <a:chOff x="5847840" y="5159520"/>
            <a:chExt cx="228600" cy="838080"/>
          </a:xfrm>
        </p:grpSpPr>
        <p:sp>
          <p:nvSpPr>
            <p:cNvPr id="583" name=""/>
            <p:cNvSpPr/>
            <p:nvPr/>
          </p:nvSpPr>
          <p:spPr>
            <a:xfrm flipH="1" flipV="1">
              <a:off x="5847840" y="51595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48200" y="51595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050560" y="1808280"/>
            <a:ext cx="228600" cy="1807560"/>
            <a:chOff x="2050560" y="1808280"/>
            <a:chExt cx="228600" cy="1807560"/>
          </a:xfrm>
        </p:grpSpPr>
        <p:grpSp>
          <p:nvGrpSpPr>
            <p:cNvPr id="586" name=""/>
            <p:cNvGrpSpPr/>
            <p:nvPr/>
          </p:nvGrpSpPr>
          <p:grpSpPr>
            <a:xfrm>
              <a:off x="2050560" y="1808280"/>
              <a:ext cx="228600" cy="664920"/>
              <a:chOff x="2050560" y="1808280"/>
              <a:chExt cx="228600" cy="664920"/>
            </a:xfrm>
          </p:grpSpPr>
          <p:sp>
            <p:nvSpPr>
              <p:cNvPr id="587" name=""/>
              <p:cNvSpPr/>
              <p:nvPr/>
            </p:nvSpPr>
            <p:spPr>
              <a:xfrm flipH="1" flipV="1">
                <a:off x="205056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05092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 flipH="1" flipV="1">
              <a:off x="205056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5092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860800" y="1808280"/>
            <a:ext cx="228600" cy="1807560"/>
            <a:chOff x="5860800" y="1808280"/>
            <a:chExt cx="228600" cy="1807560"/>
          </a:xfrm>
        </p:grpSpPr>
        <p:grpSp>
          <p:nvGrpSpPr>
            <p:cNvPr id="592" name=""/>
            <p:cNvGrpSpPr/>
            <p:nvPr/>
          </p:nvGrpSpPr>
          <p:grpSpPr>
            <a:xfrm>
              <a:off x="5860800" y="1808280"/>
              <a:ext cx="228600" cy="664920"/>
              <a:chOff x="5860800" y="1808280"/>
              <a:chExt cx="228600" cy="664920"/>
            </a:xfrm>
          </p:grpSpPr>
          <p:sp>
            <p:nvSpPr>
              <p:cNvPr id="593" name=""/>
              <p:cNvSpPr/>
              <p:nvPr/>
            </p:nvSpPr>
            <p:spPr>
              <a:xfrm flipH="1" flipV="1">
                <a:off x="586080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6116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 flipH="1" flipV="1">
              <a:off x="586080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6116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187360" y="304920"/>
            <a:ext cx="6142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Corneal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02480" y="88740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89720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Austral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30520" y="1407960"/>
            <a:ext cx="325908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1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1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13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 6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 35 Donors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retrieved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retrieved  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60000"/>
              </a:lnSpc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transplanted  1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Stored  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479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505480" y="1407960"/>
            <a:ext cx="3317760" cy="5013360"/>
          </a:xfrm>
          <a:prstGeom prst="rect">
            <a:avLst/>
          </a:prstGeom>
          <a:solidFill>
            <a:srgbClr val="0000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AU" sz="1800" spc="-1" strike="noStrike">
                <a:solidFill>
                  <a:srgbClr val="ffffff"/>
                </a:solidFill>
                <a:latin typeface="Times New Roman"/>
              </a:rPr>
              <a:t>Total Donors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700" spc="-1" strike="noStrike">
                <a:solidFill>
                  <a:srgbClr val="ffffff"/>
                </a:solidFill>
                <a:latin typeface="Times New Roman"/>
              </a:rPr>
              <a:t>No request for donation  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Request for donation 2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No consent given 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Consent given 11 Donors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retrieved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retrieved 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A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Bone not transplanted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AU" sz="1700" spc="-1" strike="noStrike">
                <a:solidFill>
                  <a:srgbClr val="ffffff"/>
                </a:solidFill>
                <a:latin typeface="Times New Roman"/>
              </a:rPr>
              <a:t>Bone Stored 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98360" y="3967200"/>
            <a:ext cx="260280" cy="733320"/>
            <a:chOff x="1998360" y="3967200"/>
            <a:chExt cx="260280" cy="733320"/>
          </a:xfrm>
        </p:grpSpPr>
        <p:sp>
          <p:nvSpPr>
            <p:cNvPr id="603" name=""/>
            <p:cNvSpPr/>
            <p:nvPr/>
          </p:nvSpPr>
          <p:spPr>
            <a:xfrm flipH="1" flipV="1">
              <a:off x="1998360" y="396720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98720" y="3967200"/>
              <a:ext cx="0" cy="7333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999800" y="5141880"/>
            <a:ext cx="228600" cy="838080"/>
            <a:chOff x="1999800" y="5141880"/>
            <a:chExt cx="228600" cy="838080"/>
          </a:xfrm>
        </p:grpSpPr>
        <p:sp>
          <p:nvSpPr>
            <p:cNvPr id="606" name=""/>
            <p:cNvSpPr/>
            <p:nvPr/>
          </p:nvSpPr>
          <p:spPr>
            <a:xfrm flipH="1" flipV="1">
              <a:off x="1999800" y="514188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000160" y="5148000"/>
              <a:ext cx="0" cy="8319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808600" y="3978360"/>
            <a:ext cx="261360" cy="745920"/>
            <a:chOff x="5808600" y="3978360"/>
            <a:chExt cx="261360" cy="745920"/>
          </a:xfrm>
        </p:grpSpPr>
        <p:sp>
          <p:nvSpPr>
            <p:cNvPr id="609" name=""/>
            <p:cNvSpPr/>
            <p:nvPr/>
          </p:nvSpPr>
          <p:spPr>
            <a:xfrm flipH="1" flipV="1">
              <a:off x="5809680" y="3978360"/>
              <a:ext cx="26028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5808600" y="3978360"/>
              <a:ext cx="1440" cy="745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795640" y="5159520"/>
            <a:ext cx="228600" cy="838080"/>
            <a:chOff x="5795640" y="5159520"/>
            <a:chExt cx="228600" cy="838080"/>
          </a:xfrm>
        </p:grpSpPr>
        <p:sp>
          <p:nvSpPr>
            <p:cNvPr id="612" name=""/>
            <p:cNvSpPr/>
            <p:nvPr/>
          </p:nvSpPr>
          <p:spPr>
            <a:xfrm flipH="1" flipV="1">
              <a:off x="5795640" y="51595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96000" y="5159520"/>
              <a:ext cx="0" cy="83808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998360" y="1808280"/>
            <a:ext cx="228600" cy="1807560"/>
            <a:chOff x="1998360" y="1808280"/>
            <a:chExt cx="228600" cy="1807560"/>
          </a:xfrm>
        </p:grpSpPr>
        <p:grpSp>
          <p:nvGrpSpPr>
            <p:cNvPr id="615" name=""/>
            <p:cNvGrpSpPr/>
            <p:nvPr/>
          </p:nvGrpSpPr>
          <p:grpSpPr>
            <a:xfrm>
              <a:off x="1998360" y="1808280"/>
              <a:ext cx="228600" cy="664920"/>
              <a:chOff x="1998360" y="1808280"/>
              <a:chExt cx="228600" cy="664920"/>
            </a:xfrm>
          </p:grpSpPr>
          <p:sp>
            <p:nvSpPr>
              <p:cNvPr id="616" name=""/>
              <p:cNvSpPr/>
              <p:nvPr/>
            </p:nvSpPr>
            <p:spPr>
              <a:xfrm flipH="1" flipV="1">
                <a:off x="199836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99872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 flipH="1" flipV="1">
              <a:off x="199836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9872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08240" y="1808280"/>
            <a:ext cx="228600" cy="1807560"/>
            <a:chOff x="5808240" y="1808280"/>
            <a:chExt cx="228600" cy="1807560"/>
          </a:xfrm>
        </p:grpSpPr>
        <p:grpSp>
          <p:nvGrpSpPr>
            <p:cNvPr id="621" name=""/>
            <p:cNvGrpSpPr/>
            <p:nvPr/>
          </p:nvGrpSpPr>
          <p:grpSpPr>
            <a:xfrm>
              <a:off x="5808240" y="1808280"/>
              <a:ext cx="228600" cy="664920"/>
              <a:chOff x="5808240" y="1808280"/>
              <a:chExt cx="228600" cy="664920"/>
            </a:xfrm>
          </p:grpSpPr>
          <p:sp>
            <p:nvSpPr>
              <p:cNvPr id="622" name=""/>
              <p:cNvSpPr/>
              <p:nvPr/>
            </p:nvSpPr>
            <p:spPr>
              <a:xfrm flipH="1" flipV="1">
                <a:off x="5808240" y="1808280"/>
                <a:ext cx="228600" cy="30456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08600" y="1808280"/>
                <a:ext cx="0" cy="6649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 flipH="1" flipV="1">
              <a:off x="5808240" y="2950920"/>
              <a:ext cx="228600" cy="304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08600" y="2950920"/>
              <a:ext cx="0" cy="664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254320" y="298440"/>
            <a:ext cx="5819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100" spc="-1" strike="noStrike">
                <a:solidFill>
                  <a:srgbClr val="fafd00"/>
                </a:solidFill>
                <a:latin typeface="Arial Black"/>
              </a:rPr>
              <a:t>Outcome of Request for Bone Donation 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00600" y="838080"/>
            <a:ext cx="2786040" cy="4827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1447920" y="1241280"/>
          <a:ext cx="82105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41280"/>
                    <a:ext cx="82105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Cadaver Kidney Transplants  1999 - 2000</a:t>
            </a:r>
            <a:br>
              <a:rPr sz="27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ustralian States - New Zeal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65200" y="1828800"/>
            <a:ext cx="7223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"/>
          <p:cNvGraphicFramePr/>
          <p:nvPr/>
        </p:nvGraphicFramePr>
        <p:xfrm>
          <a:off x="1447920" y="1241280"/>
          <a:ext cx="82105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41280"/>
                    <a:ext cx="82105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Liver Transplants  1999 - 2000</a:t>
            </a:r>
            <a:br>
              <a:rPr sz="2700"/>
            </a:br>
            <a:r>
              <a:rPr b="0" lang="en-US" sz="2400" spc="-1" strike="noStrike">
                <a:solidFill>
                  <a:srgbClr val="fafd00"/>
                </a:solidFill>
                <a:latin typeface="Arial Black"/>
              </a:rPr>
              <a:t>Australian States - New Zealand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27120" y="1890720"/>
            <a:ext cx="7223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1447920" y="1241280"/>
          <a:ext cx="82105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41280"/>
                    <a:ext cx="82105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46320" y="10047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Heart Transplants  1999 - 2000</a:t>
            </a:r>
            <a:br>
              <a:rPr sz="2500"/>
            </a:b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ustralian States - New Zealand</a:t>
            </a: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65200" y="1828800"/>
            <a:ext cx="7223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447920" y="1241280"/>
          <a:ext cx="82105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41280"/>
                    <a:ext cx="82105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71520" y="10065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Lung Transplant Recipients  1999 - 2000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ustralian States - New Zealand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65200" y="1901880"/>
            <a:ext cx="7223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1473120" y="1365120"/>
          <a:ext cx="82105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1365120"/>
                    <a:ext cx="82105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95280" y="10047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Single and Bilateral Sequential Lung Transplants by State 1999 - 2000</a:t>
            </a:r>
            <a:endParaRPr b="1" lang="en-US" sz="2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41440" y="1890720"/>
            <a:ext cx="72230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82880" y="5772600"/>
            <a:ext cx="942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QL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42280" y="5773320"/>
            <a:ext cx="80244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NS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51640" y="5773320"/>
            <a:ext cx="6256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88920" y="189000"/>
          <a:ext cx="99820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89000"/>
                    <a:ext cx="99820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690480"/>
            <a:ext cx="594360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Group of Cadaver Don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1265400"/>
            <a:ext cx="754380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0640" y="1639800"/>
            <a:ext cx="22885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19320" y="1620720"/>
            <a:ext cx="1875960" cy="1297800"/>
            <a:chOff x="1219320" y="1620720"/>
            <a:chExt cx="1875960" cy="1297800"/>
          </a:xfrm>
        </p:grpSpPr>
        <p:sp>
          <p:nvSpPr>
            <p:cNvPr id="95" name=""/>
            <p:cNvSpPr/>
            <p:nvPr/>
          </p:nvSpPr>
          <p:spPr>
            <a:xfrm>
              <a:off x="1219320" y="1774800"/>
              <a:ext cx="27900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320" y="2168640"/>
              <a:ext cx="27900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2562120"/>
              <a:ext cx="27900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1040" y="1620720"/>
              <a:ext cx="16142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46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37560" y="2001960"/>
              <a:ext cx="15249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39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37560" y="2422440"/>
              <a:ext cx="15249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(4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2680" y="325080"/>
            <a:ext cx="1015056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Graft Survival of Penetrating, Lamellar 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and Limbal Corneal Grafts</a:t>
            </a: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 </a:t>
            </a:r>
            <a:endParaRPr b="1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838080" y="1222920"/>
            <a:ext cx="8610840" cy="74520"/>
          </a:xfrm>
          <a:custGeom>
            <a:avLst/>
            <a:gdLst/>
            <a:ahLst/>
            <a:rect l="l" t="t" r="r" b="b"/>
            <a:pathLst>
              <a:path w="6395" h="1">
                <a:moveTo>
                  <a:pt x="0" y="0"/>
                </a:moveTo>
                <a:lnTo>
                  <a:pt x="6394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316080" y="1766880"/>
          <a:ext cx="9789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080" y="1766880"/>
                    <a:ext cx="9789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9067680" y="6324480"/>
            <a:ext cx="66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486320" y="402588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84960" y="3738600"/>
            <a:ext cx="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183400" y="147168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ft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554880" y="147168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163440"/>
          <a:ext cx="998208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3440"/>
                    <a:ext cx="99820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720" y="446040"/>
            <a:ext cx="812628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7640" y="105552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3000" y="1824120"/>
            <a:ext cx="2206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38080" y="1684440"/>
            <a:ext cx="1143000" cy="1284840"/>
            <a:chOff x="838080" y="1684440"/>
            <a:chExt cx="1143000" cy="1284840"/>
          </a:xfrm>
        </p:grpSpPr>
        <p:sp>
          <p:nvSpPr>
            <p:cNvPr id="107" name=""/>
            <p:cNvSpPr/>
            <p:nvPr/>
          </p:nvSpPr>
          <p:spPr>
            <a:xfrm>
              <a:off x="838080" y="182556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080" y="2219400"/>
              <a:ext cx="27936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080" y="2612880"/>
              <a:ext cx="27936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23560" y="168444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23560" y="207972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23560" y="247320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460040" y="1335240"/>
            <a:ext cx="12492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60200"/>
          <a:ext cx="998208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200"/>
                    <a:ext cx="998208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56960" y="480600"/>
            <a:ext cx="8126280" cy="6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 Black"/>
              </a:rPr>
              <a:t>Age and Gender Distribution of Donors</a:t>
            </a:r>
            <a:br>
              <a:rPr sz="2800"/>
            </a:b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2320" y="1073160"/>
            <a:ext cx="8291520" cy="0"/>
          </a:xfrm>
          <a:prstGeom prst="line">
            <a:avLst/>
          </a:prstGeom>
          <a:ln w="28440">
            <a:solidFill>
              <a:srgbClr val="ff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2600" y="1806480"/>
            <a:ext cx="2206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Black"/>
              </a:rPr>
              <a:t>New Zeal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22320" y="1658880"/>
            <a:ext cx="1143000" cy="1285200"/>
            <a:chOff x="922320" y="1658880"/>
            <a:chExt cx="1143000" cy="1285200"/>
          </a:xfrm>
        </p:grpSpPr>
        <p:sp>
          <p:nvSpPr>
            <p:cNvPr id="120" name=""/>
            <p:cNvSpPr/>
            <p:nvPr/>
          </p:nvSpPr>
          <p:spPr>
            <a:xfrm>
              <a:off x="922320" y="1800360"/>
              <a:ext cx="279360" cy="228600"/>
            </a:xfrm>
            <a:prstGeom prst="rect">
              <a:avLst/>
            </a:prstGeom>
            <a:solidFill>
              <a:srgbClr val="66ff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2320" y="2193840"/>
              <a:ext cx="279360" cy="2286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2320" y="2587680"/>
              <a:ext cx="279360" cy="228600"/>
            </a:xfrm>
            <a:prstGeom prst="rect">
              <a:avLst/>
            </a:prstGeom>
            <a:solidFill>
              <a:srgbClr val="ff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07800" y="165888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07800" y="205416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07800" y="2448000"/>
              <a:ext cx="8575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149360" y="1362240"/>
            <a:ext cx="1643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31920" y="182088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82088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892600" y="1249200"/>
            <a:ext cx="427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Australia   1989 - 2000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41040" y="5829480"/>
            <a:ext cx="12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=23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44720" y="781200"/>
            <a:ext cx="4297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Cause of Donor Death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2560" y="1752480"/>
            <a:ext cx="5867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501c"/>
            </a:gs>
            <a:gs pos="100000">
              <a:srgbClr val="4eae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193760" y="1803240"/>
          <a:ext cx="7783560" cy="41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3760" y="1803240"/>
                    <a:ext cx="7783560" cy="41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568600" y="1257480"/>
            <a:ext cx="5143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 Black"/>
              </a:rPr>
              <a:t>New Zealand   1993 - 2000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7520" y="5823000"/>
            <a:ext cx="105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n=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8440" y="803160"/>
            <a:ext cx="4297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 Black"/>
              </a:rPr>
              <a:t>Cause of Donor Death</a:t>
            </a:r>
            <a:r>
              <a:rPr b="1" lang="en-US" sz="2600" spc="-1" strike="noStrike">
                <a:solidFill>
                  <a:srgbClr val="fafd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46320" y="1752480"/>
            <a:ext cx="5867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22T16:03:42Z</dcterms:created>
  <dc:creator>TQEH</dc:creator>
  <dc:description/>
  <dc:language>en-US</dc:language>
  <cp:lastModifiedBy>Brian</cp:lastModifiedBy>
  <cp:lastPrinted>2000-05-24T04:00:02Z</cp:lastPrinted>
  <dcterms:modified xsi:type="dcterms:W3CDTF">2003-07-22T02:35:26Z</dcterms:modified>
  <cp:revision>830</cp:revision>
  <dc:subject/>
  <dc:title>Excell</dc:title>
</cp:coreProperties>
</file>