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000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60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396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000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60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15280" y="6553080"/>
            <a:ext cx="12823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728200" y="6454800"/>
            <a:ext cx="380880" cy="324000"/>
            <a:chOff x="8728200" y="6454800"/>
            <a:chExt cx="380880" cy="324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8728200" y="6454800"/>
              <a:ext cx="380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728200" y="6454800"/>
              <a:ext cx="38088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34800" y="1066680"/>
          <a:ext cx="8220240" cy="52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066680"/>
                    <a:ext cx="822024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8320" y="304920"/>
            <a:ext cx="6954840" cy="59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Prevalent Dialysis and Transplants</a:t>
            </a:r>
            <a:br>
              <a:rPr sz="26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ustralia  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(at 31st December)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5480" y="1346040"/>
            <a:ext cx="7416720" cy="781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85480" y="157788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5950080"/>
            <a:ext cx="66405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2000        2001        2002         2003       2004               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6320" y="336240"/>
            <a:ext cx="361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South Australia</a:t>
            </a:r>
            <a:br>
              <a:rPr sz="3200"/>
            </a:b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07960" y="1095480"/>
          <a:ext cx="828684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095480"/>
                    <a:ext cx="828684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014640" y="1120680"/>
            <a:ext cx="318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4720" y="914400"/>
            <a:ext cx="35226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6320" y="336240"/>
            <a:ext cx="361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Northern Territory</a:t>
            </a:r>
            <a:br>
              <a:rPr sz="3200"/>
            </a:b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95360" y="1047600"/>
          <a:ext cx="8353440" cy="55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47600"/>
                    <a:ext cx="835344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992320" y="112068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3280" y="914400"/>
            <a:ext cx="40640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6320" y="336240"/>
            <a:ext cx="361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Western Australia</a:t>
            </a:r>
            <a:br>
              <a:rPr sz="3200"/>
            </a:b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7960" y="1108080"/>
          <a:ext cx="828684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108080"/>
                    <a:ext cx="828684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92320" y="112068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41680" y="914400"/>
            <a:ext cx="39956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6880" y="1069920"/>
          <a:ext cx="8220240" cy="52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880" y="1069920"/>
                    <a:ext cx="822024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8320" y="304920"/>
            <a:ext cx="6954840" cy="59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Prevalent Dialysis and Transpla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Zealand  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(at 31st December)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341360"/>
            <a:ext cx="7416720" cy="777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76040" y="157788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umber of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5894280"/>
            <a:ext cx="630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2000        2001         2002        2003        2004</a:t>
            </a: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55440" y="336240"/>
            <a:ext cx="3613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Black"/>
              </a:rPr>
              <a:t>Australia</a:t>
            </a:r>
            <a:br>
              <a:rPr sz="3200"/>
            </a:br>
            <a:endParaRPr b="1" lang="en-US" sz="33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036800"/>
          <a:ext cx="8489880" cy="55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36800"/>
                    <a:ext cx="8489880" cy="55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454560" y="914400"/>
            <a:ext cx="23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2320" y="112068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66600" y="336240"/>
            <a:ext cx="361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Black"/>
              </a:rPr>
              <a:t>New Zealand</a:t>
            </a:r>
            <a:br>
              <a:rPr sz="3200"/>
            </a:br>
            <a:endParaRPr b="1" lang="en-US" sz="33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60520" y="1077840"/>
          <a:ext cx="828648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1077840"/>
                    <a:ext cx="828648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048120" y="905040"/>
            <a:ext cx="29797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92320" y="112068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66600" y="336240"/>
            <a:ext cx="361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Queensland</a:t>
            </a:r>
            <a:br>
              <a:rPr sz="3200"/>
            </a:b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7960" y="1206360"/>
          <a:ext cx="828684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206360"/>
                    <a:ext cx="828684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048120" y="905040"/>
            <a:ext cx="2979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16160" y="1120680"/>
            <a:ext cx="318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66600" y="336240"/>
            <a:ext cx="361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New South Wales</a:t>
            </a:r>
            <a:br>
              <a:rPr sz="3200"/>
            </a:b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360" y="1092240"/>
          <a:ext cx="828684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828684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776680" y="905040"/>
            <a:ext cx="3590640" cy="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92320" y="112068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6320" y="336240"/>
            <a:ext cx="3614760" cy="6094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Australian Capital Territory</a:t>
            </a:r>
            <a:br>
              <a:rPr sz="3200"/>
            </a:b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7960" y="1095480"/>
          <a:ext cx="828684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095480"/>
                    <a:ext cx="828684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992320" y="112068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60400" y="914400"/>
            <a:ext cx="56232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76320" y="336240"/>
            <a:ext cx="361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Victoria</a:t>
            </a:r>
            <a:br>
              <a:rPr sz="3200"/>
            </a:b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73040" y="1108080"/>
          <a:ext cx="828684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108080"/>
                    <a:ext cx="828684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68640" y="113184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54560" y="914400"/>
            <a:ext cx="22348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76320" y="336240"/>
            <a:ext cx="361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Tasmania</a:t>
            </a:r>
            <a:br>
              <a:rPr sz="3200"/>
            </a:br>
            <a:endParaRPr b="1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7960" y="1108080"/>
          <a:ext cx="828684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108080"/>
                    <a:ext cx="828684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070080" y="112068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 Per  Mill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4560" y="914400"/>
            <a:ext cx="22348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2002-10-08T08:01:51Z</cp:lastPrinted>
  <dcterms:modified xsi:type="dcterms:W3CDTF">2006-01-13T02:33:48Z</dcterms:modified>
  <cp:revision>689</cp:revision>
  <dc:subject/>
  <dc:title>Excell</dc:title>
</cp:coreProperties>
</file>