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EC9-8769-4087-8352-3FC45774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CC5-ACFB-4BF5-9555-03E353BE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FBC4-7DFB-49E2-81BE-E9ACFB71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881-E3AA-4F5E-B406-04E8FEAF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37C-EF13-4A90-89EE-626C71ED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DAE1-7045-4524-9738-EC2F5081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EDB-6A87-40B0-A4BD-19BC6B06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6FE-C81C-4201-B61D-B7C39048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F76-40A0-4EE3-A6B8-AC73CE30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AE1-E88E-44F9-A63C-948BA6E8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A27-5A79-47D6-82B6-29948F19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4D3-2D9E-4173-BC44-8A8CC4E9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93B6-C77A-4E1A-9464-69E7298D5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93680"/>
            <a:ext cx="784836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93600"/>
            <a:ext cx="69120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169920"/>
            <a:ext cx="66978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885960"/>
            <a:ext cx="878544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127080"/>
            <a:ext cx="676908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76560" y="274680"/>
            <a:ext cx="4987800" cy="63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4:49:16Z</dcterms:created>
  <dc:creator>Anzdata</dc:creator>
  <dc:description/>
  <dc:language>en-US</dc:language>
  <cp:lastModifiedBy>brian</cp:lastModifiedBy>
  <dcterms:modified xsi:type="dcterms:W3CDTF">2006-01-13T02:35:42Z</dcterms:modified>
  <cp:revision>4</cp:revision>
  <dc:subject/>
  <dc:title>Slide 1</dc:title>
</cp:coreProperties>
</file>