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5080" y="1073160"/>
          <a:ext cx="892944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073160"/>
                    <a:ext cx="89294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323000" y="228600"/>
            <a:ext cx="66121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cceptance of New Patients   1999 - 2004</a:t>
            </a: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ge Specific Rates  -  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4480" y="1204920"/>
            <a:ext cx="793584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2920" y="14032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9080" y="1003320"/>
          <a:ext cx="898344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003320"/>
                    <a:ext cx="89834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377360" y="230040"/>
            <a:ext cx="652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cceptance of New Patients   1999 -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ge Specific Rates  -  New Zea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0560" y="1214280"/>
            <a:ext cx="799164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14209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2-10-08T08:01:51Z</cp:lastPrinted>
  <dcterms:modified xsi:type="dcterms:W3CDTF">2006-01-13T04:25:28Z</dcterms:modified>
  <cp:revision>692</cp:revision>
  <dc:subject/>
  <dc:title>Excell</dc:title>
</cp:coreProperties>
</file>