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3960" y="413064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420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000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60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8396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2000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60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420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237440" y="6553080"/>
            <a:ext cx="12823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715240" y="6454800"/>
            <a:ext cx="428400" cy="324000"/>
            <a:chOff x="8715240" y="6454800"/>
            <a:chExt cx="428400" cy="32400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92200" y="419040"/>
            <a:ext cx="7902360" cy="57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507960" y="471600"/>
            <a:ext cx="7889760" cy="5740200"/>
            <a:chOff x="507960" y="471600"/>
            <a:chExt cx="7889760" cy="5740200"/>
          </a:xfrm>
        </p:grpSpPr>
        <p:sp>
          <p:nvSpPr>
            <p:cNvPr id="165" name=""/>
            <p:cNvSpPr/>
            <p:nvPr/>
          </p:nvSpPr>
          <p:spPr>
            <a:xfrm>
              <a:off x="507960" y="471600"/>
              <a:ext cx="7889760" cy="574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2640" y="480960"/>
              <a:ext cx="7875720" cy="5726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54040" y="1422360"/>
              <a:ext cx="3265560" cy="335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54040" y="4664160"/>
              <a:ext cx="3265560" cy="1440"/>
            </a:xfrm>
            <a:prstGeom prst="line">
              <a:avLst/>
            </a:prstGeom>
            <a:ln w="144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54040" y="3622680"/>
              <a:ext cx="3265560" cy="1440"/>
            </a:xfrm>
            <a:prstGeom prst="line">
              <a:avLst/>
            </a:prstGeom>
            <a:ln w="144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54040" y="2583000"/>
              <a:ext cx="3265560" cy="1440"/>
            </a:xfrm>
            <a:prstGeom prst="line">
              <a:avLst/>
            </a:prstGeom>
            <a:ln w="144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4040" y="1541520"/>
              <a:ext cx="3265560" cy="1440"/>
            </a:xfrm>
            <a:prstGeom prst="line">
              <a:avLst/>
            </a:prstGeom>
            <a:ln w="144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54600" y="1422360"/>
              <a:ext cx="3267000" cy="335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54600" y="4664160"/>
              <a:ext cx="3267000" cy="1440"/>
            </a:xfrm>
            <a:prstGeom prst="line">
              <a:avLst/>
            </a:prstGeom>
            <a:ln w="144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54600" y="3622680"/>
              <a:ext cx="3267000" cy="1440"/>
            </a:xfrm>
            <a:prstGeom prst="line">
              <a:avLst/>
            </a:prstGeom>
            <a:ln w="144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54600" y="2583000"/>
              <a:ext cx="3267000" cy="1440"/>
            </a:xfrm>
            <a:prstGeom prst="line">
              <a:avLst/>
            </a:prstGeom>
            <a:ln w="144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54600" y="1541520"/>
              <a:ext cx="3267000" cy="1440"/>
            </a:xfrm>
            <a:prstGeom prst="line">
              <a:avLst/>
            </a:prstGeom>
            <a:ln w="144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41480" y="2554200"/>
              <a:ext cx="2668680" cy="409680"/>
            </a:xfrm>
            <a:custGeom>
              <a:avLst/>
              <a:gdLst/>
              <a:ahLst/>
              <a:rect l="l" t="t" r="r" b="b"/>
              <a:pathLst>
                <a:path w="559" h="86">
                  <a:moveTo>
                    <a:pt x="0" y="86"/>
                  </a:moveTo>
                  <a:lnTo>
                    <a:pt x="80" y="39"/>
                  </a:lnTo>
                  <a:lnTo>
                    <a:pt x="160" y="0"/>
                  </a:lnTo>
                  <a:lnTo>
                    <a:pt x="240" y="50"/>
                  </a:lnTo>
                  <a:lnTo>
                    <a:pt x="320" y="5"/>
                  </a:lnTo>
                  <a:lnTo>
                    <a:pt x="400" y="15"/>
                  </a:lnTo>
                  <a:lnTo>
                    <a:pt x="479" y="42"/>
                  </a:lnTo>
                  <a:lnTo>
                    <a:pt x="559" y="4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01880" y="2925720"/>
              <a:ext cx="77760" cy="763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4560" y="2701800"/>
              <a:ext cx="75960" cy="763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66880" y="2516040"/>
              <a:ext cx="76320" cy="763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9560" y="2754360"/>
              <a:ext cx="76320" cy="7632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30440" y="2540160"/>
              <a:ext cx="76320" cy="75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13120" y="2587680"/>
              <a:ext cx="76320" cy="7632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91120" y="2716200"/>
              <a:ext cx="75960" cy="7632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2000" y="2739960"/>
              <a:ext cx="76320" cy="7632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1946160" y="2554200"/>
              <a:ext cx="1800" cy="782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06560" y="2554200"/>
              <a:ext cx="73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06560" y="3336840"/>
              <a:ext cx="73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322360" y="2323800"/>
              <a:ext cx="1800" cy="803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9240" y="2324160"/>
              <a:ext cx="71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9240" y="3127320"/>
              <a:ext cx="712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705040" y="2138400"/>
              <a:ext cx="1800" cy="806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66880" y="2138400"/>
              <a:ext cx="763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66880" y="2944800"/>
              <a:ext cx="763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087720" y="2385720"/>
              <a:ext cx="1440" cy="779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49560" y="2386080"/>
              <a:ext cx="763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49560" y="3165480"/>
              <a:ext cx="763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68600" y="2152800"/>
              <a:ext cx="1800" cy="815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30440" y="2152800"/>
              <a:ext cx="763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30440" y="2968560"/>
              <a:ext cx="763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851280" y="2200320"/>
              <a:ext cx="1440" cy="815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13120" y="2200320"/>
              <a:ext cx="71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13120" y="3016080"/>
              <a:ext cx="71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229280" y="2347560"/>
              <a:ext cx="1440" cy="779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95800" y="2347920"/>
              <a:ext cx="71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95800" y="3127320"/>
              <a:ext cx="712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610160" y="2347560"/>
              <a:ext cx="1440" cy="826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72000" y="2347920"/>
              <a:ext cx="763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72000" y="3174840"/>
              <a:ext cx="763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46720" y="2471760"/>
              <a:ext cx="2663640" cy="1055520"/>
            </a:xfrm>
            <a:custGeom>
              <a:avLst/>
              <a:gdLst/>
              <a:ahLst/>
              <a:rect l="l" t="t" r="r" b="b"/>
              <a:pathLst>
                <a:path w="558" h="221">
                  <a:moveTo>
                    <a:pt x="0" y="84"/>
                  </a:moveTo>
                  <a:lnTo>
                    <a:pt x="79" y="81"/>
                  </a:lnTo>
                  <a:lnTo>
                    <a:pt x="159" y="65"/>
                  </a:lnTo>
                  <a:lnTo>
                    <a:pt x="239" y="165"/>
                  </a:lnTo>
                  <a:lnTo>
                    <a:pt x="319" y="132"/>
                  </a:lnTo>
                  <a:lnTo>
                    <a:pt x="399" y="221"/>
                  </a:lnTo>
                  <a:lnTo>
                    <a:pt x="478" y="0"/>
                  </a:lnTo>
                  <a:lnTo>
                    <a:pt x="558" y="11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08560" y="2835360"/>
              <a:ext cx="76320" cy="7596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84760" y="2820960"/>
              <a:ext cx="76320" cy="7632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67440" y="2744640"/>
              <a:ext cx="76320" cy="7632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50120" y="3222720"/>
              <a:ext cx="75960" cy="7596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31000" y="3065400"/>
              <a:ext cx="76320" cy="7632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13680" y="3489480"/>
              <a:ext cx="75960" cy="7596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91320" y="2433600"/>
              <a:ext cx="76320" cy="7776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72560" y="2959200"/>
              <a:ext cx="75960" cy="7596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346720" y="1741320"/>
              <a:ext cx="1440" cy="2068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08560" y="1741320"/>
              <a:ext cx="71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08560" y="3809880"/>
              <a:ext cx="71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722920" y="1660680"/>
              <a:ext cx="1440" cy="2178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89440" y="1660680"/>
              <a:ext cx="71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89440" y="3838680"/>
              <a:ext cx="71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6105600" y="1712520"/>
              <a:ext cx="1440" cy="196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67440" y="1712880"/>
              <a:ext cx="763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67440" y="3676680"/>
              <a:ext cx="763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488280" y="2376000"/>
              <a:ext cx="1440" cy="1629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50120" y="2376360"/>
              <a:ext cx="75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50120" y="4005360"/>
              <a:ext cx="75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869160" y="2271240"/>
              <a:ext cx="1440" cy="1543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31000" y="2271600"/>
              <a:ext cx="763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31000" y="3814920"/>
              <a:ext cx="763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51840" y="2668680"/>
              <a:ext cx="1440" cy="158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13680" y="2668680"/>
              <a:ext cx="71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13680" y="4249800"/>
              <a:ext cx="71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7629480" y="1527120"/>
              <a:ext cx="1800" cy="1757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96360" y="1527120"/>
              <a:ext cx="712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96360" y="3284640"/>
              <a:ext cx="71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010360" y="2062080"/>
              <a:ext cx="1800" cy="1728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72560" y="2062080"/>
              <a:ext cx="75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72560" y="3790800"/>
              <a:ext cx="75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454040" y="1422000"/>
              <a:ext cx="180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387080" y="4664160"/>
              <a:ext cx="6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32120" y="453564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1387080" y="3622680"/>
              <a:ext cx="6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32120" y="349416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387080" y="2583000"/>
              <a:ext cx="6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32120" y="245268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1387080" y="1541520"/>
              <a:ext cx="6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20880" y="141300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54040" y="4775040"/>
              <a:ext cx="3265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63840" y="4775040"/>
              <a:ext cx="144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11560" y="490860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9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22360" y="4775040"/>
              <a:ext cx="180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70440" y="490860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9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87720" y="4775040"/>
              <a:ext cx="144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35440" y="490860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51280" y="4775040"/>
              <a:ext cx="144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99360" y="490860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0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10160" y="4775040"/>
              <a:ext cx="144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57880" y="490860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0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54600" y="4775040"/>
              <a:ext cx="3267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64040" y="4775040"/>
              <a:ext cx="180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12120" y="490860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9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22920" y="4775040"/>
              <a:ext cx="144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71000" y="490860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9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8280" y="4775040"/>
              <a:ext cx="144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36000" y="490860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51840" y="4775040"/>
              <a:ext cx="144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99560" y="490860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0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010360" y="4775040"/>
              <a:ext cx="180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58440" y="490860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0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54040" y="1177920"/>
              <a:ext cx="3265560" cy="24444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37000" y="1131840"/>
              <a:ext cx="790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Arial Black"/>
                </a:rPr>
                <a:t>Austral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54600" y="1177920"/>
              <a:ext cx="3267000" cy="24444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46760" y="1131840"/>
              <a:ext cx="1168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Arial Black"/>
                </a:rPr>
                <a:t>New Zealan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36720" y="3088440"/>
              <a:ext cx="1415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Biopsy rate (%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75000" y="5295960"/>
              <a:ext cx="4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04800" y="5754600"/>
              <a:ext cx="6340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Biopsy rates of new patients with primary diagnosis of GN, by year of first RRT treat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9640" y="600120"/>
              <a:ext cx="31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00"/>
                  </a:solidFill>
                  <a:latin typeface="Arial Black"/>
                </a:rPr>
                <a:t>Biopsy  Rates :  GN  onl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2440" y="476280"/>
            <a:ext cx="78372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95440" y="474840"/>
            <a:ext cx="786420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0400" y="463680"/>
            <a:ext cx="784872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6600" y="406440"/>
            <a:ext cx="785304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1960" y="441360"/>
            <a:ext cx="792648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0120" y="460440"/>
            <a:ext cx="785952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1040" y="476280"/>
            <a:ext cx="786276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606600" y="511200"/>
            <a:ext cx="7765920" cy="5649840"/>
            <a:chOff x="606600" y="511200"/>
            <a:chExt cx="7765920" cy="5649840"/>
          </a:xfrm>
        </p:grpSpPr>
        <p:sp>
          <p:nvSpPr>
            <p:cNvPr id="51" name=""/>
            <p:cNvSpPr/>
            <p:nvPr/>
          </p:nvSpPr>
          <p:spPr>
            <a:xfrm>
              <a:off x="606600" y="511200"/>
              <a:ext cx="7765920" cy="56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11280" y="520560"/>
              <a:ext cx="7751520" cy="563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2880" y="1446120"/>
              <a:ext cx="3262320" cy="330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42880" y="4332240"/>
              <a:ext cx="3262320" cy="1800"/>
            </a:xfrm>
            <a:prstGeom prst="line">
              <a:avLst/>
            </a:prstGeom>
            <a:ln w="144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2880" y="3040200"/>
              <a:ext cx="3262320" cy="1440"/>
            </a:xfrm>
            <a:prstGeom prst="line">
              <a:avLst/>
            </a:prstGeom>
            <a:ln w="144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42880" y="1743120"/>
              <a:ext cx="3262320" cy="1440"/>
            </a:xfrm>
            <a:prstGeom prst="line">
              <a:avLst/>
            </a:prstGeom>
            <a:ln w="144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36960" y="1446120"/>
              <a:ext cx="3262320" cy="330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36960" y="4332240"/>
              <a:ext cx="3262320" cy="1800"/>
            </a:xfrm>
            <a:prstGeom prst="line">
              <a:avLst/>
            </a:prstGeom>
            <a:ln w="144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36960" y="3040200"/>
              <a:ext cx="3262320" cy="1440"/>
            </a:xfrm>
            <a:prstGeom prst="line">
              <a:avLst/>
            </a:prstGeom>
            <a:ln w="144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36960" y="1743120"/>
              <a:ext cx="3262320" cy="1440"/>
            </a:xfrm>
            <a:prstGeom prst="line">
              <a:avLst/>
            </a:prstGeom>
            <a:ln w="144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32120" y="1978200"/>
              <a:ext cx="2665440" cy="977760"/>
            </a:xfrm>
            <a:custGeom>
              <a:avLst/>
              <a:gdLst/>
              <a:ahLst/>
              <a:rect l="l" t="t" r="r" b="b"/>
              <a:pathLst>
                <a:path w="567" h="208">
                  <a:moveTo>
                    <a:pt x="0" y="0"/>
                  </a:moveTo>
                  <a:lnTo>
                    <a:pt x="81" y="6"/>
                  </a:lnTo>
                  <a:lnTo>
                    <a:pt x="162" y="43"/>
                  </a:lnTo>
                  <a:lnTo>
                    <a:pt x="243" y="37"/>
                  </a:lnTo>
                  <a:lnTo>
                    <a:pt x="324" y="81"/>
                  </a:lnTo>
                  <a:lnTo>
                    <a:pt x="405" y="123"/>
                  </a:lnTo>
                  <a:lnTo>
                    <a:pt x="486" y="103"/>
                  </a:lnTo>
                  <a:lnTo>
                    <a:pt x="567" y="208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93960" y="1940040"/>
              <a:ext cx="75960" cy="759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74840" y="1968480"/>
              <a:ext cx="76320" cy="745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55720" y="2141640"/>
              <a:ext cx="76320" cy="759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36960" y="2114640"/>
              <a:ext cx="74520" cy="7452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17840" y="2320920"/>
              <a:ext cx="74520" cy="7452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98720" y="2517840"/>
              <a:ext cx="74880" cy="75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9960" y="2424240"/>
              <a:ext cx="74520" cy="7452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59400" y="2917800"/>
              <a:ext cx="75960" cy="7452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932120" y="1549080"/>
              <a:ext cx="1440" cy="824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93960" y="1549440"/>
              <a:ext cx="71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3960" y="2373480"/>
              <a:ext cx="71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313000" y="1596960"/>
              <a:ext cx="1440" cy="789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74840" y="1596960"/>
              <a:ext cx="763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74840" y="2386080"/>
              <a:ext cx="763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693880" y="1798560"/>
              <a:ext cx="1800" cy="743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55720" y="1798560"/>
              <a:ext cx="763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55720" y="2541600"/>
              <a:ext cx="763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075120" y="1771560"/>
              <a:ext cx="1440" cy="741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36960" y="1771560"/>
              <a:ext cx="745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36960" y="2513160"/>
              <a:ext cx="74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456000" y="1996920"/>
              <a:ext cx="1440" cy="695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17840" y="1996920"/>
              <a:ext cx="745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17840" y="2692440"/>
              <a:ext cx="74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835440" y="2203200"/>
              <a:ext cx="1440" cy="680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98720" y="2203560"/>
              <a:ext cx="74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98720" y="2884320"/>
              <a:ext cx="748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216320" y="2114640"/>
              <a:ext cx="1800" cy="676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79960" y="2114640"/>
              <a:ext cx="74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79960" y="2790720"/>
              <a:ext cx="745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597560" y="2620800"/>
              <a:ext cx="1440" cy="649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59400" y="2620800"/>
              <a:ext cx="75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59400" y="3270240"/>
              <a:ext cx="75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26200" y="3157560"/>
              <a:ext cx="2665440" cy="893880"/>
            </a:xfrm>
            <a:custGeom>
              <a:avLst/>
              <a:gdLst/>
              <a:ahLst/>
              <a:rect l="l" t="t" r="r" b="b"/>
              <a:pathLst>
                <a:path w="567" h="190">
                  <a:moveTo>
                    <a:pt x="0" y="129"/>
                  </a:moveTo>
                  <a:lnTo>
                    <a:pt x="81" y="190"/>
                  </a:lnTo>
                  <a:lnTo>
                    <a:pt x="162" y="131"/>
                  </a:lnTo>
                  <a:lnTo>
                    <a:pt x="243" y="96"/>
                  </a:lnTo>
                  <a:lnTo>
                    <a:pt x="324" y="16"/>
                  </a:lnTo>
                  <a:lnTo>
                    <a:pt x="405" y="146"/>
                  </a:lnTo>
                  <a:lnTo>
                    <a:pt x="486" y="0"/>
                  </a:lnTo>
                  <a:lnTo>
                    <a:pt x="567" y="8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88040" y="3726000"/>
              <a:ext cx="75960" cy="7596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68920" y="4013280"/>
              <a:ext cx="76320" cy="7452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49800" y="3735360"/>
              <a:ext cx="76320" cy="7632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31040" y="3571920"/>
              <a:ext cx="74520" cy="7452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11920" y="3195720"/>
              <a:ext cx="74520" cy="7452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92800" y="3807000"/>
              <a:ext cx="74880" cy="7452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74040" y="3119400"/>
              <a:ext cx="74520" cy="7632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53480" y="3524400"/>
              <a:ext cx="75960" cy="7452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326200" y="2982960"/>
              <a:ext cx="1440" cy="144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88040" y="2982960"/>
              <a:ext cx="75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88040" y="4425840"/>
              <a:ext cx="75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707080" y="3359160"/>
              <a:ext cx="1440" cy="1279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68920" y="3359160"/>
              <a:ext cx="763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68920" y="4638600"/>
              <a:ext cx="763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6087960" y="3054240"/>
              <a:ext cx="1800" cy="1330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49800" y="3054240"/>
              <a:ext cx="763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49800" y="4384800"/>
              <a:ext cx="763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469200" y="2922480"/>
              <a:ext cx="1440" cy="1278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31040" y="2922480"/>
              <a:ext cx="745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31040" y="4200480"/>
              <a:ext cx="745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850080" y="2550600"/>
              <a:ext cx="1440" cy="1282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11920" y="2550960"/>
              <a:ext cx="745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11920" y="3833640"/>
              <a:ext cx="745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229520" y="3214440"/>
              <a:ext cx="1440" cy="117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92800" y="3214800"/>
              <a:ext cx="74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92800" y="4389480"/>
              <a:ext cx="74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610400" y="2467080"/>
              <a:ext cx="1800" cy="1301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74040" y="2467080"/>
              <a:ext cx="74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74040" y="3768840"/>
              <a:ext cx="74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991640" y="2893680"/>
              <a:ext cx="1440" cy="1251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53480" y="2894040"/>
              <a:ext cx="75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53480" y="4145040"/>
              <a:ext cx="75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442880" y="1446120"/>
              <a:ext cx="1800" cy="330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378080" y="4332240"/>
              <a:ext cx="64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54440" y="420516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378080" y="3040200"/>
              <a:ext cx="6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54440" y="29131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378080" y="1743120"/>
              <a:ext cx="6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54440" y="161604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2880" y="4746600"/>
              <a:ext cx="3262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50880" y="4746600"/>
              <a:ext cx="180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13360" y="487836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9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13000" y="4746600"/>
              <a:ext cx="144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75120" y="487836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9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75120" y="4746600"/>
              <a:ext cx="144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7240" y="487836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35440" y="4746600"/>
              <a:ext cx="144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97560" y="487836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0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97560" y="4746600"/>
              <a:ext cx="144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59680" y="487836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0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36960" y="4746600"/>
              <a:ext cx="3262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44960" y="4746600"/>
              <a:ext cx="180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07080" y="487836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9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07080" y="4746600"/>
              <a:ext cx="144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9200" y="487836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9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69200" y="4746600"/>
              <a:ext cx="144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31320" y="487836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29520" y="4746600"/>
              <a:ext cx="144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91640" y="487836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0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91640" y="4746600"/>
              <a:ext cx="144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53760" y="487836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Arial Black"/>
                </a:rPr>
                <a:t>0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880" y="1206360"/>
              <a:ext cx="3262320" cy="23976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16120" y="1158840"/>
              <a:ext cx="739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 Black"/>
                </a:rPr>
                <a:t>Austral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36960" y="1206360"/>
              <a:ext cx="3262320" cy="23976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8320" y="1158840"/>
              <a:ext cx="1091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 Black"/>
                </a:rPr>
                <a:t>New Zeal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135000" y="3071160"/>
              <a:ext cx="1415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Biopsy rate (%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14600" y="5259240"/>
              <a:ext cx="4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4200" y="5738760"/>
              <a:ext cx="4412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Biopsy rates of all new patients, by year of first RRT treat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83160" y="639720"/>
              <a:ext cx="1666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00"/>
                  </a:solidFill>
                  <a:latin typeface="Arial Black"/>
                </a:rPr>
                <a:t>Biopsy Rat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22T16:03:42Z</dcterms:created>
  <dc:creator>TQEH</dc:creator>
  <dc:description/>
  <dc:language>en-US</dc:language>
  <cp:lastModifiedBy>brian</cp:lastModifiedBy>
  <cp:lastPrinted>2002-10-08T08:01:51Z</cp:lastPrinted>
  <dcterms:modified xsi:type="dcterms:W3CDTF">2006-01-13T04:25:17Z</dcterms:modified>
  <cp:revision>692</cp:revision>
  <dc:subject/>
  <dc:title>Excell</dc:title>
</cp:coreProperties>
</file>