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C16-C7F5-4248-90BC-8FAB05BA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B03-4E78-4777-A9F6-33F2746A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872-319F-4959-AC18-7A26616B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77A-EEBE-4B6A-B645-E2171781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0E5-AA5A-4745-9077-A4587788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9B0-F65D-4B29-8D4A-3B9C6F20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F85-4371-4DB3-A663-1378361B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B38-12C3-4ADB-824F-7D9A11B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BA3-D658-41B4-8E2F-EB73B269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B79-3D52-49D9-8C3A-A6A5284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721-1A1B-429C-83AB-F1EA39EA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797-CD8D-4088-8F7B-367BA29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F976-FB1D-4464-AC58-1337739C4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19160"/>
            <a:ext cx="79200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089000"/>
            <a:ext cx="87854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9800" y="189000"/>
            <a:ext cx="5472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25520" y="115920"/>
            <a:ext cx="49309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76440" y="115920"/>
            <a:ext cx="60847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177840"/>
            <a:ext cx="7274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237960"/>
            <a:ext cx="7488000" cy="616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10458360" y="-13163400"/>
          <a:ext cx="6651720" cy="6402240"/>
        </p:xfrm>
        <a:graphic>
          <a:graphicData uri="http://schemas.openxmlformats.org/drawingml/2006/table">
            <a:tbl>
              <a:tblPr/>
              <a:tblGrid>
                <a:gridCol w="560520"/>
                <a:gridCol w="327240"/>
                <a:gridCol w="285840"/>
                <a:gridCol w="286200"/>
                <a:gridCol w="285840"/>
                <a:gridCol w="285840"/>
                <a:gridCol w="290520"/>
                <a:gridCol w="300240"/>
                <a:gridCol w="285840"/>
                <a:gridCol w="327240"/>
                <a:gridCol w="284400"/>
                <a:gridCol w="268920"/>
                <a:gridCol w="288720"/>
                <a:gridCol w="286200"/>
                <a:gridCol w="285840"/>
                <a:gridCol w="327240"/>
                <a:gridCol w="277920"/>
                <a:gridCol w="216000"/>
                <a:gridCol w="230760"/>
                <a:gridCol w="336600"/>
                <a:gridCol w="289080"/>
                <a:gridCol w="324720"/>
              </a:tblGrid>
              <a:tr h="322560">
                <a:tc gridSpan="2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ge and Gender of New Patients   1-Jan-2004  to  31-Dec-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n = Number of Patient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l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40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SW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53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4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4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3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15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79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21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191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44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-0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5-1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2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-3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-4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-5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-6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-7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-8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=85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 (yr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an (yr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-9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1-92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7-81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-8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.1-87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-8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7-77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-9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-92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-92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-10458360" y="-13163400"/>
          <a:ext cx="6651720" cy="6402240"/>
        </p:xfrm>
        <a:graphic>
          <a:graphicData uri="http://schemas.openxmlformats.org/drawingml/2006/table">
            <a:tbl>
              <a:tblPr/>
              <a:tblGrid>
                <a:gridCol w="560520"/>
                <a:gridCol w="327240"/>
                <a:gridCol w="285840"/>
                <a:gridCol w="286200"/>
                <a:gridCol w="285840"/>
                <a:gridCol w="285840"/>
                <a:gridCol w="290520"/>
                <a:gridCol w="300240"/>
                <a:gridCol w="285840"/>
                <a:gridCol w="327240"/>
                <a:gridCol w="284400"/>
                <a:gridCol w="268920"/>
                <a:gridCol w="288720"/>
                <a:gridCol w="286200"/>
                <a:gridCol w="285840"/>
                <a:gridCol w="327240"/>
                <a:gridCol w="277920"/>
                <a:gridCol w="216000"/>
                <a:gridCol w="230760"/>
                <a:gridCol w="336600"/>
                <a:gridCol w="289080"/>
                <a:gridCol w="324720"/>
              </a:tblGrid>
              <a:tr h="322560">
                <a:tc gridSpan="2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ge and Gender of New Patients   1-Jan-2004  to  31-Dec-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n = Number of Patient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l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40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SW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53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4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4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3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15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79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21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191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=44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-0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5-1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2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-3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-4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-5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-6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-7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-84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=85 y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 (yr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an (yr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-9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1-92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7-81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-8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.1-87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-8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7-77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-9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-92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-92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282600"/>
            <a:ext cx="88567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385920"/>
            <a:ext cx="777744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011240"/>
            <a:ext cx="87854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92280" y="189000"/>
            <a:ext cx="4475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979560"/>
            <a:ext cx="878544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790560"/>
            <a:ext cx="8785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57320"/>
            <a:ext cx="68421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2:39:09Z</dcterms:modified>
  <cp:revision>4</cp:revision>
  <dc:subject/>
  <dc:title>Slide 1</dc:title>
</cp:coreProperties>
</file>