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FDD-D027-48D0-9C0D-EFB5F138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388-6FA3-4DC9-82F2-E500347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057-B3B0-4A89-A0C2-32389F35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E42-C722-4A27-B681-C8ABBD21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EB2-A50C-49E2-9BE6-39E81054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816-361E-4CFC-9462-DF463F35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FA2-DAF4-4037-8F68-75AB14C7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5E4-CC7E-4498-8ADD-6D8CDBBD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18B-62AE-4521-B744-AA250CD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D1B-EDE4-481C-8BA2-3E11F5F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153-1C6A-4E5F-9953-DAF16B9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4A7-E55D-4CB9-B6C4-F2F75D6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20E-0BDA-4710-A6C3-E12D4459742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23840"/>
            <a:ext cx="849780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24:16Z</dcterms:modified>
  <cp:revision>6</cp:revision>
  <dc:subject/>
  <dc:title>Slide 1</dc:title>
</cp:coreProperties>
</file>