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BC8F-92C8-4AF6-A026-B4CD6AF5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837A-BE9F-4807-80A6-44F31D47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4D61-D6A5-4D59-AC63-1D85DF9D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91F0-F49D-40B0-B52C-E33F1979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DEE6-48F8-44EC-B4BF-BFD6688E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9291-092C-43AD-BB5B-F69118F9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433A-6B09-4150-902D-B9A9C7D2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8F12-EE44-46B7-A5B1-BE540ED6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F4CE-B2EB-479D-9DE7-E6280E14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E252-D589-4599-97AB-B4B1166A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3067-F091-4A5C-A4AC-AB4AFB43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CEF3-EBBD-440F-845E-575D885E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EDAC-06F3-42B0-A1E4-4347F9B62A6D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237440" y="6553080"/>
            <a:ext cx="128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715240" y="6454800"/>
            <a:ext cx="428400" cy="324000"/>
            <a:chOff x="8715240" y="6454800"/>
            <a:chExt cx="428400" cy="324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8000" y="973080"/>
            <a:ext cx="8856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574640"/>
            <a:ext cx="8785440" cy="32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-10180800" y="-13163400"/>
          <a:ext cx="5369040" cy="14859000"/>
        </p:xfrm>
        <a:graphic>
          <a:graphicData uri="http://schemas.openxmlformats.org/drawingml/2006/table">
            <a:tbl>
              <a:tblPr/>
              <a:tblGrid>
                <a:gridCol w="2352600"/>
                <a:gridCol w="711360"/>
                <a:gridCol w="642960"/>
                <a:gridCol w="231840"/>
                <a:gridCol w="664920"/>
                <a:gridCol w="765360"/>
              </a:tblGrid>
              <a:tr h="2462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ause of Death and Transplant Depend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-Jan-2004  to  31-Dec-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use of Death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alysi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alysi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dia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 rowSpan="6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diac arre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emorrhagic pericarditi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yperkalaem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ypertensive cardiac failur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yocardial infarct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yocardial infarction (presume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causes of cardiac failur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ulmonary oedem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b Tot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5 (4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 (22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5 (51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(12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ect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NS - vir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o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o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NS - fung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a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NS - oth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b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b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b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ng - bacteri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ng - vir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(c,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ng - fung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(e,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ng - protozo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g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g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ng - oth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(b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b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b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rinary tract - bacteri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und - bacteri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und - oth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b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unt - bacteri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itoneum - bacteri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itoneum - fung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(h,I,j,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p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itoneum - oth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b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b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pticaemia - bacteri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pticaemia - vir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(m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pticaemia - fung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(f,e,k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pticaemia - protozo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(n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pticaemia - oth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 (b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(b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ver - vir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l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site - bacteri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site - vir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m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site - oth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b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b Tot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5 (14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 (21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 (12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(24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scula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wel infarct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rebrovascular accid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strointestinal haemorrhag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emorrhage - dialysis access si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emorrhage - elsewher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uptured aortic aneurys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b Tot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2 (9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(8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 (6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(24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ci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cid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 refused further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icid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rapy ceas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thdrawal - access problems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thdrawal - cardiovascular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thdrawal - cerebrovascular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thdrawal - malignancy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thdrawal - peripheral Vascular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thdrawal - psychosocial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b Tot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 (27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(3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 (22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scellaneou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chex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ronic respiratory failur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patic failur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lignanc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ncreatiti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foration abdominal viscu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b Tot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 (1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 (46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 (9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(4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5 (10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 (10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1 (10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 (10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45972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a) nocardia   (e) aspergillus   (i) curvulaira lunata   (m) cm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b) organism not isolated   (f) candida   ((j) fungus presumed   (n) toxoplasmosi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c) influenzae   (g) pneumocystis   (k) cryptococcus   (o) herpes zoste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d) virus presumed   (h) biopolaris species    (l) hepatitis B   (p) paecilomyc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-10180800" y="-13163400"/>
          <a:ext cx="5369040" cy="14859000"/>
        </p:xfrm>
        <a:graphic>
          <a:graphicData uri="http://schemas.openxmlformats.org/drawingml/2006/table">
            <a:tbl>
              <a:tblPr/>
              <a:tblGrid>
                <a:gridCol w="2352600"/>
                <a:gridCol w="711360"/>
                <a:gridCol w="642960"/>
                <a:gridCol w="231840"/>
                <a:gridCol w="664920"/>
                <a:gridCol w="765360"/>
              </a:tblGrid>
              <a:tr h="2462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ause of Death and Transplant Depend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-Jan-2004  to  31-Dec-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use of Death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alysi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alysi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dia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 rowSpan="6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diac arre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emorrhagic pericarditi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yperkalaem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ypertensive cardiac failur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yocardial infarct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yocardial infarction (presume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causes of cardiac failur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ulmonary oedem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b Tot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5 (4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 (22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5 (51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(12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ect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NS - vir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o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o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NS - fung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a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NS - oth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b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b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b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ng - bacteri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ng - vir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(c,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ng - fung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(e,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ng - protozo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g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g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ng - oth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(b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b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b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rinary tract - bacteri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und - bacteri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und - oth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b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unt - bacteri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itoneum - bacteri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itoneum - fung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(h,I,j,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p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itoneum - oth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b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b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pticaemia - bacteri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pticaemia - vir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(m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pticaemia - fung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(f,e,k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pticaemia - protozo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(n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pticaemia - oth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 (b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(b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ver - vir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l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site - bacteri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site - vir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m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site - oth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b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b Tot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5 (14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 (21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 (12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(24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scula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wel infarct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rebrovascular accid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strointestinal haemorrhag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emorrhage - dialysis access si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emorrhage - elsewher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uptured aortic aneurys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b Tot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2 (9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(8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 (6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(24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ci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cid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 refused further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icid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rapy ceas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thdrawal - access problems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thdrawal - cardiovascular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thdrawal - cerebrovascular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thdrawal - malignancy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thdrawal - peripheral Vascular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thdrawal - psychosocial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b Tot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 (27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(3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 (22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scellaneou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chex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ronic respiratory failur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patic failur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lignanc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ncreatiti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foration abdominal viscu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b Tot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 (1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 (46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 (9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(4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5 (10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 (10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1 (10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 (10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45972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a) nocardia   (e) aspergillus   (i) curvulaira lunata   (m) cm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b) organism not isolated   (f) candida   ((j) fungus presumed   (n) toxoplasmosi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c) influenzae   (g) pneumocystis   (k) cryptococcus   (o) herpes zoste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d) virus presumed   (h) biopolaris species    (l) hepatitis B   (p) paecilomyc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00280" y="115920"/>
            <a:ext cx="37242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0000" y="198360"/>
            <a:ext cx="763272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210960"/>
            <a:ext cx="77058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71640" y="182520"/>
            <a:ext cx="748800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26920" y="210960"/>
            <a:ext cx="7777440" cy="620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81280" y="189000"/>
            <a:ext cx="21290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89240" y="189000"/>
            <a:ext cx="3006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04:49:16Z</dcterms:created>
  <dc:creator>Anzdata</dc:creator>
  <dc:description/>
  <dc:language>en-US</dc:language>
  <cp:lastModifiedBy>brian</cp:lastModifiedBy>
  <dcterms:modified xsi:type="dcterms:W3CDTF">2006-01-13T04:24:29Z</dcterms:modified>
  <cp:revision>6</cp:revision>
  <dc:subject/>
  <dc:title>Slide 1</dc:title>
</cp:coreProperties>
</file>