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83960" y="413064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8396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420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2000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60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8396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2000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60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83960" y="19810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8396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420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83960" y="413064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3960" y="19810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237440" y="6553080"/>
            <a:ext cx="128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715240" y="6454800"/>
            <a:ext cx="428400" cy="324000"/>
            <a:chOff x="8715240" y="6454800"/>
            <a:chExt cx="428400" cy="32400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4800" y="509400"/>
            <a:ext cx="828072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Method and Location of Dialysis  1999 - 2004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04640" y="1521000"/>
          <a:ext cx="7861320" cy="49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521000"/>
                    <a:ext cx="786132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040760" y="1187280"/>
            <a:ext cx="274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Pat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25400" y="1174680"/>
            <a:ext cx="1433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040" y="998640"/>
            <a:ext cx="749592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14520" y="1160640"/>
          <a:ext cx="8367480" cy="46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1160640"/>
                    <a:ext cx="836748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093680" y="1677960"/>
            <a:ext cx="4229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Patients  (7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89960" y="5745240"/>
            <a:ext cx="162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Age Gro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89400" y="1316160"/>
            <a:ext cx="1894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 Black"/>
              </a:rPr>
              <a:t>31-Dec-20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29840"/>
            <a:ext cx="828036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Prevalent Dialysis Patients  (Australia)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34920" y="977760"/>
            <a:ext cx="7245360" cy="32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5960" y="1239840"/>
          <a:ext cx="8367840" cy="46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1239840"/>
                    <a:ext cx="836784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120680" y="1505520"/>
            <a:ext cx="385308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ients per Million  (3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31640"/>
            <a:ext cx="8280360" cy="4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Prevalent Dialysis Patients (Australia)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8920" y="998640"/>
            <a:ext cx="7245360" cy="32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89960" y="5745240"/>
            <a:ext cx="162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Age Gro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74920" y="1330200"/>
            <a:ext cx="1894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 Black"/>
              </a:rPr>
              <a:t>31-Dec-20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6920" y="510840"/>
            <a:ext cx="828036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Method and Location of Dialysis  1999 - 2004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20800" y="1413000"/>
          <a:ext cx="8143920" cy="50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0800" y="1413000"/>
                    <a:ext cx="8143920" cy="50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950400" y="1173240"/>
            <a:ext cx="274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Pat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02560" y="1160640"/>
            <a:ext cx="196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98480" y="998640"/>
            <a:ext cx="7419960" cy="9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62040" y="1425600"/>
          <a:ext cx="8367840" cy="46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425600"/>
                    <a:ext cx="836784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019880" y="1665360"/>
            <a:ext cx="40280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Patients  (177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10760" y="5748480"/>
            <a:ext cx="162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Age Gro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7200" y="418680"/>
            <a:ext cx="828036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Prevalent Dialysis Patients (New Zealand)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987480"/>
            <a:ext cx="74390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1322280"/>
            <a:ext cx="1894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 Black"/>
              </a:rPr>
              <a:t>31-Dec-20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36480" y="1154160"/>
          <a:ext cx="8367840" cy="46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1154160"/>
                    <a:ext cx="836784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338120" y="1981080"/>
            <a:ext cx="19195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4520" y="5727600"/>
            <a:ext cx="162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Age Gro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89200" y="1656000"/>
            <a:ext cx="3862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ients per Million  (43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6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444240"/>
            <a:ext cx="828036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Prevalent Dialysis Patients (New Zealand)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4040" y="990720"/>
            <a:ext cx="752148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4920" y="1339920"/>
            <a:ext cx="1894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 Black"/>
              </a:rPr>
              <a:t>31-Dec-20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22T16:03:42Z</dcterms:created>
  <dc:creator/>
  <dc:description/>
  <dc:language>en-US</dc:language>
  <cp:lastModifiedBy>brian</cp:lastModifiedBy>
  <cp:lastPrinted>2002-10-04T07:48:05Z</cp:lastPrinted>
  <dcterms:modified xsi:type="dcterms:W3CDTF">2006-01-13T02:42:56Z</dcterms:modified>
  <cp:revision>804</cp:revision>
  <dc:subject/>
  <dc:title>Prevalence and Incidence 1992-1999*   End Stage Renal Failure  -  Australia  </dc:title>
</cp:coreProperties>
</file>