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C9C-5966-4579-8D77-5D7C5991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E8C-CE5E-42ED-A191-6688107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CD8-19E8-4092-8A67-3F069EF1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73B-1EDC-4008-93A3-59521077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A5A-1EB1-47A1-8EE7-EDC3E6F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8DC-E5A7-466D-80CB-59E117C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591-56D9-433C-9F34-79DA33F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FA5-7D09-47DB-8425-65508548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F64-77D3-42BB-9C6E-A02C6058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DCD-7A17-4D39-A1FC-26A974E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3FD-FDCA-439E-BD28-63823387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CBA-BB11-4EFB-B834-12A0A31B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E04-CD51-4467-91A4-EB7750F8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228600"/>
            <a:ext cx="691344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-5305320" y="-12872880"/>
          <a:ext cx="3994200" cy="4732200"/>
        </p:xfrm>
        <a:graphic>
          <a:graphicData uri="http://schemas.openxmlformats.org/drawingml/2006/table">
            <a:tbl>
              <a:tblPr/>
              <a:tblGrid>
                <a:gridCol w="1079640"/>
                <a:gridCol w="576000"/>
                <a:gridCol w="576360"/>
                <a:gridCol w="576360"/>
                <a:gridCol w="576360"/>
                <a:gridCol w="609480"/>
              </a:tblGrid>
              <a:tr h="3272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ate Distribution of Dialysis Dependent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per Million Populatio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enslan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4 (29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4 (30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3 (32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8 (35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2 (37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South Wales 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3 (34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35 (36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29 (37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42 (39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13 (38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. Capital Territory 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 (32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 (31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7 (34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6 (35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4 (35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cto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4 (359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1 (38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4 (39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3 (40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47 (41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m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 (25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 (26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 (30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 (32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 (30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th Austra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6 (26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 (28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7 (30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5 (33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7 (33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thern Terri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 (91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 (106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3 (117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 (124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 (138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stern Austra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4 (34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6 (34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3 (36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 (38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5 (41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12 (33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52 (35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69 (37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20 (38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52 (39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6 (34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8 (37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0 (40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3 (42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70 (43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736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NSW population excludes residents of the Southern Area Health Servi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ACT population includes residents of the Southern Area Health Servi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dical services in the ACT service the Southern Area Region of NSW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277920"/>
            <a:ext cx="640908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41200"/>
            <a:ext cx="8785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23920"/>
            <a:ext cx="856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2:43:42Z</dcterms:modified>
  <cp:revision>6</cp:revision>
  <dc:subject/>
  <dc:title>Slide 1</dc:title>
</cp:coreProperties>
</file>