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6908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83960" y="4130640"/>
            <a:ext cx="6908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420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8396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420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2000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604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8396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2000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604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83960" y="1981080"/>
            <a:ext cx="6908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6908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420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7440" y="609120"/>
            <a:ext cx="6909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420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8396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420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420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420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83960" y="4130640"/>
            <a:ext cx="6908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3960" y="1981080"/>
            <a:ext cx="6908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237440" y="6553080"/>
            <a:ext cx="1282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80808"/>
                </a:solidFill>
                <a:latin typeface="Arial"/>
              </a:rPr>
              <a:t>© ANZDATA Regist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715240" y="6454800"/>
            <a:ext cx="428400" cy="324000"/>
            <a:chOff x="8715240" y="6454800"/>
            <a:chExt cx="428400" cy="324000"/>
          </a:xfrm>
        </p:grpSpPr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8715240" y="6454800"/>
              <a:ext cx="42840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8715240" y="6454800"/>
              <a:ext cx="428400" cy="3240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8840" y="320760"/>
            <a:ext cx="9021960" cy="105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Black"/>
              </a:rPr>
              <a:t>Stock and Flow of Haemodialysis Patients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 Black"/>
              </a:rPr>
              <a:t>Australia   2000 - 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4520" y="1187280"/>
            <a:ext cx="7799400" cy="907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49400" y="1432080"/>
          <a:ext cx="8745480" cy="52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400" y="1432080"/>
                    <a:ext cx="8745480" cy="52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3221640" y="1378080"/>
            <a:ext cx="2863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300" spc="-1" strike="noStrike">
                <a:solidFill>
                  <a:srgbClr val="000000"/>
                </a:solidFill>
                <a:latin typeface="Arial"/>
              </a:rPr>
              <a:t>Number of Patien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21520" y="2276640"/>
            <a:ext cx="15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200" spc="-1" strike="noStrike">
                <a:solidFill>
                  <a:srgbClr val="000000"/>
                </a:solidFill>
                <a:latin typeface="Arial"/>
              </a:rPr>
              <a:t>6174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2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22360" y="5916600"/>
            <a:ext cx="7326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000          2001          2002          2003          200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65240" y="1819440"/>
            <a:ext cx="187812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pl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m. Trans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. Dialy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611280" y="115920"/>
            <a:ext cx="8181720" cy="6265800"/>
            <a:chOff x="611280" y="115920"/>
            <a:chExt cx="8181720" cy="6265800"/>
          </a:xfrm>
        </p:grpSpPr>
        <p:sp>
          <p:nvSpPr>
            <p:cNvPr id="218" name=""/>
            <p:cNvSpPr/>
            <p:nvPr/>
          </p:nvSpPr>
          <p:spPr>
            <a:xfrm>
              <a:off x="611280" y="115920"/>
              <a:ext cx="8181720" cy="626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15960" y="125280"/>
              <a:ext cx="8167680" cy="62517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393920" y="1981080"/>
              <a:ext cx="3481200" cy="238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393920" y="4249080"/>
              <a:ext cx="3481200" cy="1440"/>
            </a:xfrm>
            <a:prstGeom prst="line">
              <a:avLst/>
            </a:prstGeom>
            <a:ln w="144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393920" y="3619440"/>
              <a:ext cx="3481200" cy="1440"/>
            </a:xfrm>
            <a:prstGeom prst="line">
              <a:avLst/>
            </a:prstGeom>
            <a:ln w="144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393920" y="2982960"/>
              <a:ext cx="3481200" cy="1440"/>
            </a:xfrm>
            <a:prstGeom prst="line">
              <a:avLst/>
            </a:prstGeom>
            <a:ln w="144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393920" y="2347200"/>
              <a:ext cx="3481200" cy="1080"/>
            </a:xfrm>
            <a:prstGeom prst="line">
              <a:avLst/>
            </a:prstGeom>
            <a:ln w="144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19840" y="1981080"/>
              <a:ext cx="3485880" cy="238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019840" y="4249080"/>
              <a:ext cx="3485880" cy="1440"/>
            </a:xfrm>
            <a:prstGeom prst="line">
              <a:avLst/>
            </a:prstGeom>
            <a:ln w="144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019840" y="3619440"/>
              <a:ext cx="3485880" cy="1440"/>
            </a:xfrm>
            <a:prstGeom prst="line">
              <a:avLst/>
            </a:prstGeom>
            <a:ln w="144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19840" y="2982960"/>
              <a:ext cx="3485880" cy="1440"/>
            </a:xfrm>
            <a:prstGeom prst="line">
              <a:avLst/>
            </a:prstGeom>
            <a:ln w="144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019840" y="2347200"/>
              <a:ext cx="3485880" cy="1080"/>
            </a:xfrm>
            <a:prstGeom prst="line">
              <a:avLst/>
            </a:prstGeom>
            <a:ln w="144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35200" y="3911400"/>
              <a:ext cx="79200" cy="831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279520" y="3832560"/>
              <a:ext cx="79560" cy="8316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825640" y="3770640"/>
              <a:ext cx="77760" cy="8316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370320" y="3755160"/>
              <a:ext cx="79200" cy="8316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909960" y="3691800"/>
              <a:ext cx="79560" cy="8352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54640" y="3529800"/>
              <a:ext cx="79200" cy="8352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74800" y="3863160"/>
              <a:ext cx="1440" cy="162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739880" y="4025520"/>
              <a:ext cx="7452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739880" y="3863160"/>
              <a:ext cx="7452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319480" y="3775320"/>
              <a:ext cx="1440" cy="177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79520" y="3952800"/>
              <a:ext cx="7956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279520" y="3775320"/>
              <a:ext cx="7956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63800" y="3707280"/>
              <a:ext cx="1800" cy="19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25640" y="3900600"/>
              <a:ext cx="7776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25640" y="3707280"/>
              <a:ext cx="777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09920" y="3691800"/>
              <a:ext cx="1440" cy="19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370320" y="3885120"/>
              <a:ext cx="7452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70320" y="3691800"/>
              <a:ext cx="745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49560" y="3623760"/>
              <a:ext cx="1800" cy="2037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914640" y="3827520"/>
              <a:ext cx="748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14640" y="3623760"/>
              <a:ext cx="748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494240" y="3452760"/>
              <a:ext cx="1440" cy="218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54640" y="3671640"/>
              <a:ext cx="7920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454640" y="3452760"/>
              <a:ext cx="7920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365800" y="2926080"/>
              <a:ext cx="79200" cy="8316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05440" y="3237840"/>
              <a:ext cx="79560" cy="8316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450120" y="3196440"/>
              <a:ext cx="79200" cy="83160"/>
            </a:xfrm>
            <a:prstGeom prst="ellipse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996240" y="3191760"/>
              <a:ext cx="77760" cy="83160"/>
            </a:xfrm>
            <a:prstGeom prst="ellipse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540560" y="3279600"/>
              <a:ext cx="79560" cy="83160"/>
            </a:xfrm>
            <a:prstGeom prst="ellipse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080200" y="2529360"/>
              <a:ext cx="79560" cy="83160"/>
            </a:xfrm>
            <a:prstGeom prst="ellipse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405400" y="2467440"/>
              <a:ext cx="1800" cy="891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65800" y="3358440"/>
              <a:ext cx="7452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65800" y="2467440"/>
              <a:ext cx="745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945040" y="2847240"/>
              <a:ext cx="1800" cy="756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910120" y="3603960"/>
              <a:ext cx="7488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910120" y="2847240"/>
              <a:ext cx="748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89720" y="2805480"/>
              <a:ext cx="1440" cy="761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450120" y="3566880"/>
              <a:ext cx="79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50120" y="2805480"/>
              <a:ext cx="79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035840" y="2820960"/>
              <a:ext cx="1440" cy="730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996240" y="3551400"/>
              <a:ext cx="777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996240" y="2820960"/>
              <a:ext cx="777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580160" y="2935440"/>
              <a:ext cx="1800" cy="683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540560" y="3619440"/>
              <a:ext cx="745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540560" y="2935440"/>
              <a:ext cx="7452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120160" y="2101320"/>
              <a:ext cx="1440" cy="855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080200" y="2956680"/>
              <a:ext cx="795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080200" y="2101320"/>
              <a:ext cx="795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393920" y="1980720"/>
              <a:ext cx="1440" cy="238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1324080" y="4249080"/>
              <a:ext cx="69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79640" y="410868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500" spc="-1" strike="noStrike">
                  <a:solidFill>
                    <a:srgbClr val="000000"/>
                  </a:solidFill>
                  <a:latin typeface="Arial Black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1324080" y="3619440"/>
              <a:ext cx="69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79640" y="347904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500" spc="-1" strike="noStrike"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1324080" y="2982960"/>
              <a:ext cx="69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079640" y="284256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500" spc="-1" strike="noStrike">
                  <a:solidFill>
                    <a:srgbClr val="000000"/>
                  </a:solidFill>
                  <a:latin typeface="Arial Black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1324080" y="2347200"/>
              <a:ext cx="698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079640" y="220644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500" spc="-1" strike="noStrike">
                  <a:solidFill>
                    <a:srgbClr val="000000"/>
                  </a:solidFill>
                  <a:latin typeface="Arial Black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393920" y="4369680"/>
              <a:ext cx="3481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774800" y="4369680"/>
              <a:ext cx="144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531800" y="4479120"/>
              <a:ext cx="46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000000"/>
                  </a:solidFill>
                  <a:latin typeface="Arial Black"/>
                </a:rPr>
                <a:t>Mar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19480" y="4369680"/>
              <a:ext cx="144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83680" y="4479120"/>
              <a:ext cx="43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000000"/>
                  </a:solidFill>
                  <a:latin typeface="Arial Black"/>
                </a:rPr>
                <a:t>Sep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863800" y="4369680"/>
              <a:ext cx="180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620800" y="4479120"/>
              <a:ext cx="46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000000"/>
                  </a:solidFill>
                  <a:latin typeface="Arial Black"/>
                </a:rPr>
                <a:t>Mar0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409920" y="4369680"/>
              <a:ext cx="144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74120" y="4479120"/>
              <a:ext cx="43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000000"/>
                  </a:solidFill>
                  <a:latin typeface="Arial Black"/>
                </a:rPr>
                <a:t>Sep0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949560" y="4369680"/>
              <a:ext cx="180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706560" y="4479120"/>
              <a:ext cx="46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000000"/>
                  </a:solidFill>
                  <a:latin typeface="Arial Black"/>
                </a:rPr>
                <a:t>Mar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494240" y="4369680"/>
              <a:ext cx="144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255200" y="4479120"/>
              <a:ext cx="44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000000"/>
                  </a:solidFill>
                  <a:latin typeface="Arial Black"/>
                </a:rPr>
                <a:t>Dec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019840" y="4369680"/>
              <a:ext cx="3485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05400" y="4369680"/>
              <a:ext cx="180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162400" y="4479120"/>
              <a:ext cx="46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000000"/>
                  </a:solidFill>
                  <a:latin typeface="Arial Black"/>
                </a:rPr>
                <a:t>Mar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945040" y="4369680"/>
              <a:ext cx="180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709600" y="4479120"/>
              <a:ext cx="43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000000"/>
                  </a:solidFill>
                  <a:latin typeface="Arial Black"/>
                </a:rPr>
                <a:t>Sep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489720" y="4369680"/>
              <a:ext cx="144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46360" y="4479120"/>
              <a:ext cx="46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000000"/>
                  </a:solidFill>
                  <a:latin typeface="Arial Black"/>
                </a:rPr>
                <a:t>Mar0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035840" y="4369680"/>
              <a:ext cx="144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800040" y="4479120"/>
              <a:ext cx="43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000000"/>
                  </a:solidFill>
                  <a:latin typeface="Arial Black"/>
                </a:rPr>
                <a:t>Sep0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580160" y="4369680"/>
              <a:ext cx="180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337160" y="4479120"/>
              <a:ext cx="46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000000"/>
                  </a:solidFill>
                  <a:latin typeface="Arial Black"/>
                </a:rPr>
                <a:t>Mar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20160" y="4369680"/>
              <a:ext cx="144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881120" y="4479120"/>
              <a:ext cx="44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000000"/>
                  </a:solidFill>
                  <a:latin typeface="Arial Black"/>
                </a:rPr>
                <a:t>Dec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393920" y="1715400"/>
              <a:ext cx="3481200" cy="26532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674800" y="174816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Australi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019840" y="1715400"/>
              <a:ext cx="3485880" cy="26532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106680" y="1748160"/>
              <a:ext cx="1326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New Zealan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02000" y="5302440"/>
              <a:ext cx="3003480" cy="53244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666960" y="5521680"/>
              <a:ext cx="88920" cy="93960"/>
            </a:xfrm>
            <a:prstGeom prst="ellipse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356000" y="5569560"/>
              <a:ext cx="7714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4356000" y="5521320"/>
              <a:ext cx="1800" cy="9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5127480" y="5521320"/>
              <a:ext cx="1800" cy="9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98440" y="540756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 Black"/>
                </a:rPr>
                <a:t>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21880" y="5407560"/>
              <a:ext cx="735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 Black"/>
                </a:rPr>
                <a:t>95% C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16200000">
              <a:off x="-383400" y="2978280"/>
              <a:ext cx="2454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 Black"/>
                </a:rPr>
                <a:t>6.5+ Hours/Session (%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057920" y="4786560"/>
              <a:ext cx="1485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 Black"/>
                </a:rPr>
                <a:t>Survey Perio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828240" y="1179720"/>
              <a:ext cx="2010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000" spc="-1" strike="noStrike">
                  <a:solidFill>
                    <a:srgbClr val="000000"/>
                  </a:solidFill>
                  <a:latin typeface="Arial Black"/>
                </a:rPr>
                <a:t>By Survey Perio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380760" y="257760"/>
              <a:ext cx="2687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300" spc="-1" strike="noStrike">
                  <a:solidFill>
                    <a:srgbClr val="000000"/>
                  </a:solidFill>
                  <a:latin typeface="Arial Black"/>
                </a:rPr>
                <a:t>Number of Patient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713680" y="688680"/>
              <a:ext cx="44294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500" spc="-1" strike="noStrike">
                  <a:solidFill>
                    <a:srgbClr val="000000"/>
                  </a:solidFill>
                  <a:latin typeface="Arial Black"/>
                </a:rPr>
                <a:t>Dialysing 6.5 Hours or Longer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09440" y="506160"/>
            <a:ext cx="7010280" cy="10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Black"/>
              </a:rPr>
              <a:t>Duration of Dialysis Treatment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Black"/>
              </a:rPr>
              <a:t>Three Sessions Per Week - Australi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814320" y="1434960"/>
          <a:ext cx="7688160" cy="515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4320" y="1434960"/>
                    <a:ext cx="7688160" cy="51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1616760" y="1649520"/>
            <a:ext cx="331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ortion (%) of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79400" y="1434960"/>
            <a:ext cx="77230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09440" y="506160"/>
            <a:ext cx="7010280" cy="10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Black"/>
              </a:rPr>
              <a:t>Duration of Dialysis Treatment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Black"/>
              </a:rPr>
              <a:t>Three Sessions Per Week – New Zealand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814320" y="1434960"/>
          <a:ext cx="7688160" cy="515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4320" y="1434960"/>
                    <a:ext cx="7688160" cy="51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>
            <a:off x="1616760" y="1649520"/>
            <a:ext cx="331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ortion (%) of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79400" y="1434960"/>
            <a:ext cx="77230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977840" y="323640"/>
            <a:ext cx="5189400" cy="58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Haemodialysis Surface Area</a:t>
            </a:r>
            <a:br>
              <a:rPr sz="2500"/>
            </a:b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250920" y="549360"/>
          <a:ext cx="8620200" cy="57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549360"/>
                    <a:ext cx="8620200" cy="57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755280" y="1231920"/>
            <a:ext cx="28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mber of Patien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85720" y="1198440"/>
            <a:ext cx="1538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204920" y="5754600"/>
            <a:ext cx="16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38040" y="5589720"/>
            <a:ext cx="247680" cy="2286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38040" y="5892840"/>
            <a:ext cx="247680" cy="2286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88960" y="5516640"/>
            <a:ext cx="7953120" cy="7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51      137    340    111     39     301   1046   2296   248    331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185     16     82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0        97    336      98     21     141   1565   2383   210      81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279     22     9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39840" y="900000"/>
            <a:ext cx="81993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95280" y="5048280"/>
            <a:ext cx="3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77840" y="312480"/>
            <a:ext cx="5189400" cy="58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Haemodialysis Surface Area</a:t>
            </a:r>
            <a:br>
              <a:rPr sz="2500"/>
            </a:b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250920" y="819000"/>
          <a:ext cx="8620200" cy="570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819000"/>
                    <a:ext cx="8620200" cy="570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"/>
          <p:cNvSpPr/>
          <p:nvPr/>
        </p:nvSpPr>
        <p:spPr>
          <a:xfrm>
            <a:off x="754920" y="1231920"/>
            <a:ext cx="274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mber of Pati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464160" y="1174680"/>
            <a:ext cx="2120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Arial"/>
              </a:rPr>
              <a:t>New Zealan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204920" y="5754600"/>
            <a:ext cx="16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8040" y="5838840"/>
            <a:ext cx="247680" cy="2286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8040" y="6141960"/>
            <a:ext cx="247680" cy="2286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11200" y="5780160"/>
            <a:ext cx="8051760" cy="7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20        26        9         0        26      111     444       1       252      22       24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19        26        2         1        18      156     418       1       168     196     10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39840" y="900000"/>
            <a:ext cx="81993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36680" y="5084640"/>
            <a:ext cx="384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1" name=""/>
          <p:cNvGraphicFramePr/>
          <p:nvPr/>
        </p:nvGraphicFramePr>
        <p:xfrm>
          <a:off x="932040" y="1467000"/>
          <a:ext cx="7756200" cy="506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2040" y="1467000"/>
                    <a:ext cx="7756200" cy="50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1476360" y="682560"/>
            <a:ext cx="676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52320" y="422280"/>
            <a:ext cx="76536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Black"/>
              </a:rPr>
              <a:t>First Access for Haemodi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 Black"/>
              </a:rPr>
              <a:t>Australia   01-Jan-2004 – 31-Dec-200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1219320" y="1339920"/>
            <a:ext cx="6508800" cy="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932040" y="1413000"/>
          <a:ext cx="7756200" cy="506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2040" y="1413000"/>
                    <a:ext cx="7756200" cy="50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"/>
          <p:cNvSpPr/>
          <p:nvPr/>
        </p:nvSpPr>
        <p:spPr>
          <a:xfrm>
            <a:off x="1476360" y="682560"/>
            <a:ext cx="676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52320" y="422280"/>
            <a:ext cx="76536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Black"/>
              </a:rPr>
              <a:t>First Access for Haemodi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 Black"/>
              </a:rPr>
              <a:t>New Zealand   01-Jan-2004 – 31-Dec-200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1219320" y="1339920"/>
            <a:ext cx="6508800" cy="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1" name=""/>
          <p:cNvGraphicFramePr/>
          <p:nvPr/>
        </p:nvGraphicFramePr>
        <p:xfrm>
          <a:off x="932040" y="1467000"/>
          <a:ext cx="7756200" cy="506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2040" y="1467000"/>
                    <a:ext cx="7756200" cy="50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1476360" y="682560"/>
            <a:ext cx="676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52320" y="422280"/>
            <a:ext cx="765360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Black"/>
              </a:rPr>
              <a:t>Type of Access for Haemodi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Black"/>
              </a:rPr>
              <a:t>Australia   December 200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1219320" y="1440000"/>
            <a:ext cx="6508800" cy="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996840" y="1473120"/>
          <a:ext cx="7791480" cy="508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6840" y="1473120"/>
                    <a:ext cx="7791480" cy="50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"/>
          <p:cNvSpPr/>
          <p:nvPr/>
        </p:nvSpPr>
        <p:spPr>
          <a:xfrm>
            <a:off x="1476360" y="682560"/>
            <a:ext cx="676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" y="422280"/>
            <a:ext cx="765324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Black"/>
              </a:rPr>
              <a:t>Type of Access for Haemodi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Black"/>
              </a:rPr>
              <a:t>New Zealand   December 2004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19320" y="1467000"/>
            <a:ext cx="6508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17360" y="0"/>
            <a:ext cx="890928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840" y="320760"/>
            <a:ext cx="9021960" cy="105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 Black"/>
              </a:rPr>
              <a:t>Stock and Flow of Haemodialysis Patients</a:t>
            </a:r>
            <a:br>
              <a:rPr sz="2500"/>
            </a:br>
            <a:r>
              <a:rPr b="0" lang="en-AU" sz="2500" spc="-1" strike="noStrike">
                <a:solidFill>
                  <a:srgbClr val="000000"/>
                </a:solidFill>
                <a:latin typeface="Arial Black"/>
              </a:rPr>
              <a:t>New Zealand  2000 - 2004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4520" y="1187280"/>
            <a:ext cx="7799400" cy="907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49400" y="1432080"/>
          <a:ext cx="8745480" cy="52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400" y="1432080"/>
                    <a:ext cx="8745480" cy="52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3246840" y="1365120"/>
            <a:ext cx="2863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300" spc="-1" strike="noStrike">
                <a:solidFill>
                  <a:srgbClr val="000000"/>
                </a:solidFill>
                <a:latin typeface="Arial"/>
              </a:rPr>
              <a:t>Number of Patien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59600" y="2090880"/>
            <a:ext cx="15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200" spc="-1" strike="noStrike">
                <a:solidFill>
                  <a:srgbClr val="000000"/>
                </a:solidFill>
                <a:latin typeface="Arial"/>
              </a:rPr>
              <a:t>1028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2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15880" y="5905440"/>
            <a:ext cx="66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000         2001         2002          2003          2004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13120" y="1893960"/>
            <a:ext cx="187776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pl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m. Trans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. Dialy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95280" y="392040"/>
            <a:ext cx="8089920" cy="588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716040" y="966960"/>
          <a:ext cx="7677000" cy="41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040" y="966960"/>
                    <a:ext cx="7677000" cy="41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476360" y="847800"/>
            <a:ext cx="676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38120" y="1628640"/>
            <a:ext cx="19195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47720" y="568440"/>
            <a:ext cx="762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 Black"/>
              </a:rPr>
              <a:t>Age of New Haemodialysis Patients 200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0320" y="1081080"/>
            <a:ext cx="7567560" cy="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5520" y="5014800"/>
            <a:ext cx="825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s.   11        46       84      164      254     340      447     322       29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60920" y="1238400"/>
            <a:ext cx="14997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 Black"/>
              </a:rPr>
              <a:t>Austral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716040" y="966960"/>
          <a:ext cx="7677000" cy="41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040" y="966960"/>
                    <a:ext cx="7677000" cy="41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1476360" y="847800"/>
            <a:ext cx="676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38120" y="1628640"/>
            <a:ext cx="19195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71480" y="566640"/>
            <a:ext cx="762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 Black"/>
              </a:rPr>
              <a:t>Age of Current Haemodialysis Patie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7880" y="1104840"/>
            <a:ext cx="7567560" cy="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5160" y="5014800"/>
            <a:ext cx="840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s.    6        107     339      626     1029   1289   1479    1186     113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46800" y="1239840"/>
            <a:ext cx="33771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 Black"/>
              </a:rPr>
              <a:t>Australia  </a:t>
            </a:r>
            <a:r>
              <a:rPr b="0" lang="en-AU" sz="2300" spc="-1" strike="noStrike">
                <a:solidFill>
                  <a:srgbClr val="000000"/>
                </a:solidFill>
                <a:latin typeface="Arial Black"/>
              </a:rPr>
              <a:t>31-Dec-200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716040" y="966960"/>
          <a:ext cx="7677000" cy="41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040" y="966960"/>
                    <a:ext cx="7677000" cy="41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1476360" y="847800"/>
            <a:ext cx="676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47720" y="568440"/>
            <a:ext cx="762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 Black"/>
              </a:rPr>
              <a:t>Age of New Haemodialysis Patients 200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7880" y="1092240"/>
            <a:ext cx="7567560" cy="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45520" y="5014800"/>
            <a:ext cx="817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s.    1         10       24        43       74        94       69        25        5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16560" y="1251000"/>
            <a:ext cx="2046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Black"/>
              </a:rPr>
              <a:t>New Zea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692280" y="1003320"/>
          <a:ext cx="7677000" cy="41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003320"/>
                    <a:ext cx="7677000" cy="41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1476360" y="847800"/>
            <a:ext cx="676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38120" y="1628640"/>
            <a:ext cx="19195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93800" y="555480"/>
            <a:ext cx="762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 Black"/>
              </a:rPr>
              <a:t>Age of Dialysing Haemodialysis Patie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14240" y="1116000"/>
            <a:ext cx="7567920" cy="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5520" y="5014800"/>
            <a:ext cx="825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s.    1         33        74      137      220     284      208      68         3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07560" y="1251000"/>
            <a:ext cx="39243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Black"/>
              </a:rPr>
              <a:t>New Zealand</a:t>
            </a:r>
            <a:r>
              <a:rPr b="0" lang="en-AU" sz="25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AU" sz="2300" spc="-1" strike="noStrike">
                <a:solidFill>
                  <a:srgbClr val="000000"/>
                </a:solidFill>
                <a:latin typeface="Arial Black"/>
              </a:rPr>
              <a:t>31-Dec-200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1600" y="339840"/>
            <a:ext cx="7157880" cy="47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Black"/>
              </a:rPr>
              <a:t>Distribution of Blood Flow Rate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76440" y="1152360"/>
          <a:ext cx="7672320" cy="50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1152360"/>
                    <a:ext cx="7672320" cy="50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741240" y="801720"/>
            <a:ext cx="7096320" cy="6480"/>
          </a:xfrm>
          <a:prstGeom prst="line">
            <a:avLst/>
          </a:prstGeom>
          <a:ln w="381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0160" y="1008000"/>
            <a:ext cx="274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mber of Pati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276960" y="1389240"/>
            <a:ext cx="1616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0160" y="339840"/>
            <a:ext cx="7158240" cy="47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Black"/>
              </a:rPr>
              <a:t>Distribution of Blood Flow Rate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76440" y="1125360"/>
          <a:ext cx="7672320" cy="50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1125360"/>
                    <a:ext cx="7672320" cy="50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 flipV="1">
            <a:off x="741240" y="796680"/>
            <a:ext cx="7108920" cy="4680"/>
          </a:xfrm>
          <a:prstGeom prst="line">
            <a:avLst/>
          </a:prstGeom>
          <a:ln w="381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20160" y="1008000"/>
            <a:ext cx="274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mber of Pati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1387440"/>
            <a:ext cx="2263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Arial"/>
              </a:rPr>
              <a:t>New Zeal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544680" y="241200"/>
            <a:ext cx="8342280" cy="6140160"/>
            <a:chOff x="544680" y="241200"/>
            <a:chExt cx="8342280" cy="6140160"/>
          </a:xfrm>
        </p:grpSpPr>
        <p:sp>
          <p:nvSpPr>
            <p:cNvPr id="102" name=""/>
            <p:cNvSpPr/>
            <p:nvPr/>
          </p:nvSpPr>
          <p:spPr>
            <a:xfrm>
              <a:off x="544680" y="450720"/>
              <a:ext cx="8342280" cy="593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4680" y="464400"/>
              <a:ext cx="8328240" cy="59169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99040" y="1935360"/>
              <a:ext cx="3474720" cy="2383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99040" y="4211280"/>
              <a:ext cx="3474720" cy="1080"/>
            </a:xfrm>
            <a:prstGeom prst="line">
              <a:avLst/>
            </a:prstGeom>
            <a:ln w="1584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99040" y="3718080"/>
              <a:ext cx="3474720" cy="1080"/>
            </a:xfrm>
            <a:prstGeom prst="line">
              <a:avLst/>
            </a:prstGeom>
            <a:ln w="1584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499040" y="3223080"/>
              <a:ext cx="3474720" cy="1080"/>
            </a:xfrm>
            <a:prstGeom prst="line">
              <a:avLst/>
            </a:prstGeom>
            <a:ln w="1584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499040" y="2735640"/>
              <a:ext cx="3474720" cy="1440"/>
            </a:xfrm>
            <a:prstGeom prst="line">
              <a:avLst/>
            </a:prstGeom>
            <a:ln w="1584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99040" y="2240640"/>
              <a:ext cx="3474720" cy="1440"/>
            </a:xfrm>
            <a:prstGeom prst="line">
              <a:avLst/>
            </a:prstGeom>
            <a:ln w="1584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19920" y="1935360"/>
              <a:ext cx="3475080" cy="2383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119920" y="4211280"/>
              <a:ext cx="3475080" cy="1080"/>
            </a:xfrm>
            <a:prstGeom prst="line">
              <a:avLst/>
            </a:prstGeom>
            <a:ln w="1584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19920" y="3718080"/>
              <a:ext cx="3475080" cy="1080"/>
            </a:xfrm>
            <a:prstGeom prst="line">
              <a:avLst/>
            </a:prstGeom>
            <a:ln w="1584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119920" y="3223080"/>
              <a:ext cx="3475080" cy="1080"/>
            </a:xfrm>
            <a:prstGeom prst="line">
              <a:avLst/>
            </a:prstGeom>
            <a:ln w="1584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19920" y="2735640"/>
              <a:ext cx="3475080" cy="1440"/>
            </a:xfrm>
            <a:prstGeom prst="line">
              <a:avLst/>
            </a:prstGeom>
            <a:ln w="1584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19920" y="2240640"/>
              <a:ext cx="3475080" cy="1440"/>
            </a:xfrm>
            <a:prstGeom prst="line">
              <a:avLst/>
            </a:prstGeom>
            <a:ln w="1584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41760" y="3485160"/>
              <a:ext cx="81000" cy="7884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83200" y="3741120"/>
              <a:ext cx="81000" cy="7884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22840" y="3752280"/>
              <a:ext cx="81000" cy="7848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464280" y="3405960"/>
              <a:ext cx="79200" cy="7884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008600" y="3055680"/>
              <a:ext cx="81000" cy="7848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50040" y="3258360"/>
              <a:ext cx="79560" cy="7884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83160" y="2720160"/>
              <a:ext cx="1440" cy="123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41760" y="3958200"/>
              <a:ext cx="8100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41760" y="2720160"/>
              <a:ext cx="8100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22800" y="3105000"/>
              <a:ext cx="1440" cy="986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83200" y="4091760"/>
              <a:ext cx="810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83200" y="3105000"/>
              <a:ext cx="8100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64240" y="3134160"/>
              <a:ext cx="1440" cy="961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27520" y="409608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27520" y="313416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08560" y="2700360"/>
              <a:ext cx="1800" cy="1178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68960" y="387900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68960" y="2700360"/>
              <a:ext cx="7452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50000" y="2261160"/>
              <a:ext cx="1440" cy="137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08600" y="3632400"/>
              <a:ext cx="8100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08600" y="2261160"/>
              <a:ext cx="8100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89640" y="2577240"/>
              <a:ext cx="1800" cy="1179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50040" y="3756600"/>
              <a:ext cx="7956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50040" y="2577240"/>
              <a:ext cx="795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63000" y="3268080"/>
              <a:ext cx="81000" cy="7884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004080" y="2878560"/>
              <a:ext cx="81000" cy="7884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544080" y="2724840"/>
              <a:ext cx="81000" cy="78840"/>
            </a:xfrm>
            <a:prstGeom prst="ellipse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83720" y="2435040"/>
              <a:ext cx="81000" cy="77040"/>
            </a:xfrm>
            <a:prstGeom prst="ellipse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625160" y="2468880"/>
              <a:ext cx="81000" cy="78840"/>
            </a:xfrm>
            <a:prstGeom prst="ellipse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169480" y="2340360"/>
              <a:ext cx="81000" cy="78840"/>
            </a:xfrm>
            <a:prstGeom prst="ellipse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04040" y="3025800"/>
              <a:ext cx="1800" cy="508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63000" y="3534840"/>
              <a:ext cx="759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63000" y="3025800"/>
              <a:ext cx="7596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44040" y="2595960"/>
              <a:ext cx="1440" cy="592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04080" y="3188880"/>
              <a:ext cx="8100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04080" y="2595960"/>
              <a:ext cx="810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85120" y="2428560"/>
              <a:ext cx="1800" cy="617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44080" y="3045960"/>
              <a:ext cx="810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44080" y="2428560"/>
              <a:ext cx="8100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125120" y="2122920"/>
              <a:ext cx="1440" cy="656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83720" y="2779200"/>
              <a:ext cx="8100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083720" y="2122920"/>
              <a:ext cx="810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64760" y="2167920"/>
              <a:ext cx="1440" cy="64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29840" y="280872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629840" y="216792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10880" y="2043720"/>
              <a:ext cx="1440" cy="63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69480" y="267516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69480" y="204372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1499040" y="1935360"/>
              <a:ext cx="1440" cy="238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429200" y="4211280"/>
              <a:ext cx="698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87640" y="4077720"/>
              <a:ext cx="10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Arial Black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429200" y="3718080"/>
              <a:ext cx="698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133280" y="358416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Arial Black"/>
                </a:rPr>
                <a:t>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1429200" y="3223080"/>
              <a:ext cx="698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87640" y="3090960"/>
              <a:ext cx="10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429200" y="2735640"/>
              <a:ext cx="69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25640" y="2602440"/>
              <a:ext cx="252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Arial Black"/>
                </a:rPr>
                <a:t>1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1429200" y="2240640"/>
              <a:ext cx="69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87640" y="2109240"/>
              <a:ext cx="10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99040" y="4319640"/>
              <a:ext cx="3474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83160" y="4319640"/>
              <a:ext cx="144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4600" y="4428360"/>
              <a:ext cx="46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000000"/>
                  </a:solidFill>
                  <a:latin typeface="Arial Black"/>
                </a:rPr>
                <a:t>Mar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22800" y="4319640"/>
              <a:ext cx="144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161800" y="4428360"/>
              <a:ext cx="43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000000"/>
                  </a:solidFill>
                  <a:latin typeface="Arial Black"/>
                </a:rPr>
                <a:t>Sep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64240" y="4319640"/>
              <a:ext cx="144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95680" y="4428360"/>
              <a:ext cx="46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000000"/>
                  </a:solidFill>
                  <a:latin typeface="Arial Black"/>
                </a:rPr>
                <a:t>Mar0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8560" y="4319640"/>
              <a:ext cx="180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247560" y="4428360"/>
              <a:ext cx="43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000000"/>
                  </a:solidFill>
                  <a:latin typeface="Arial Black"/>
                </a:rPr>
                <a:t>Sep0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50000" y="4319640"/>
              <a:ext cx="144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81440" y="4428360"/>
              <a:ext cx="46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000000"/>
                  </a:solidFill>
                  <a:latin typeface="Arial Black"/>
                </a:rPr>
                <a:t>Mar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89640" y="4319640"/>
              <a:ext cx="180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27200" y="4428360"/>
              <a:ext cx="44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000000"/>
                  </a:solidFill>
                  <a:latin typeface="Arial Black"/>
                </a:rPr>
                <a:t>Dec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119920" y="4319640"/>
              <a:ext cx="3475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4040" y="4319640"/>
              <a:ext cx="180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235480" y="4428360"/>
              <a:ext cx="46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000000"/>
                  </a:solidFill>
                  <a:latin typeface="Arial Black"/>
                </a:rPr>
                <a:t>Mar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044040" y="4319640"/>
              <a:ext cx="144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82680" y="4428360"/>
              <a:ext cx="43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000000"/>
                  </a:solidFill>
                  <a:latin typeface="Arial Black"/>
                </a:rPr>
                <a:t>Sep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585120" y="4319640"/>
              <a:ext cx="180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316560" y="4428360"/>
              <a:ext cx="46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000000"/>
                  </a:solidFill>
                  <a:latin typeface="Arial Black"/>
                </a:rPr>
                <a:t>Mar0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25120" y="4319640"/>
              <a:ext cx="144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863760" y="4428360"/>
              <a:ext cx="43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000000"/>
                  </a:solidFill>
                  <a:latin typeface="Arial Black"/>
                </a:rPr>
                <a:t>Sep0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664760" y="4319640"/>
              <a:ext cx="144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396200" y="4428360"/>
              <a:ext cx="46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000000"/>
                  </a:solidFill>
                  <a:latin typeface="Arial Black"/>
                </a:rPr>
                <a:t>Mar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210880" y="4319640"/>
              <a:ext cx="144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948080" y="4428360"/>
              <a:ext cx="44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000000"/>
                  </a:solidFill>
                  <a:latin typeface="Arial Black"/>
                </a:rPr>
                <a:t>Dec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499040" y="1683720"/>
              <a:ext cx="3474720" cy="25128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863080" y="1722960"/>
              <a:ext cx="842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Austral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119920" y="1683720"/>
              <a:ext cx="3475080" cy="25128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81280" y="1722960"/>
              <a:ext cx="124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New Zeal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427560" y="5207040"/>
              <a:ext cx="2949840" cy="65592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61200" y="5494320"/>
              <a:ext cx="90360" cy="88200"/>
            </a:xfrm>
            <a:prstGeom prst="ellipse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362840" y="5537520"/>
              <a:ext cx="7873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4362840" y="5487840"/>
              <a:ext cx="1440" cy="94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5150160" y="5487840"/>
              <a:ext cx="1440" cy="94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94480" y="5379120"/>
              <a:ext cx="180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344560" y="5379120"/>
              <a:ext cx="694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95% C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6200000">
              <a:off x="-668520" y="2940120"/>
              <a:ext cx="2946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 Black"/>
                </a:rPr>
                <a:t>5+ treatments per week (%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048560" y="4800600"/>
              <a:ext cx="1404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Survey Perio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714120" y="1168920"/>
              <a:ext cx="2010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000" spc="-1" strike="noStrike">
                  <a:solidFill>
                    <a:srgbClr val="000000"/>
                  </a:solidFill>
                  <a:latin typeface="Arial Black"/>
                </a:rPr>
                <a:t>By Survey Perio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44480" y="241200"/>
              <a:ext cx="2687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300" spc="-1" strike="noStrike">
                  <a:solidFill>
                    <a:srgbClr val="000000"/>
                  </a:solidFill>
                  <a:latin typeface="Arial Black"/>
                </a:rPr>
                <a:t>Number of Patient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139480" y="703440"/>
              <a:ext cx="51732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300" spc="-1" strike="noStrike">
                  <a:solidFill>
                    <a:srgbClr val="000000"/>
                  </a:solidFill>
                  <a:latin typeface="Arial Black"/>
                </a:rPr>
                <a:t>Dialysing Five or More Days per Week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22T16:03:42Z</dcterms:created>
  <dc:creator/>
  <dc:description/>
  <dc:language>en-US</dc:language>
  <cp:lastModifiedBy>brian</cp:lastModifiedBy>
  <cp:lastPrinted>2002-10-04T07:48:05Z</cp:lastPrinted>
  <dcterms:modified xsi:type="dcterms:W3CDTF">2006-01-13T02:49:01Z</dcterms:modified>
  <cp:revision>805</cp:revision>
  <dc:subject/>
  <dc:title>Prevalence and Incidence 1992-1999*   End Stage Renal Failure  -  Australia  </dc:title>
</cp:coreProperties>
</file>