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E5A-DFA7-4480-AD1D-9B772081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B82-A571-4C8B-A491-54FFB51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FF4-045C-4475-80E0-7FACB851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907-87AB-4D4C-8E40-BB8FD525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10D-3089-4154-80E3-0980EDC6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280-01EC-4A1A-BFFF-B8150CF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390-67F9-4E16-B27D-E6552C5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4FA-73F2-4890-9683-57A54EF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8A0-C948-497E-861F-50408C57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CD1-8B95-46F9-8F1E-192DB824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067-9482-4C96-8D0D-D471C56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8E8-CA4E-47A6-AAEE-053CDA69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C75-2AC0-4CC2-879F-5783EBBC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78080" y="115920"/>
            <a:ext cx="48229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066760"/>
            <a:ext cx="8642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73280"/>
            <a:ext cx="8785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87360"/>
            <a:ext cx="8856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2160" y="3556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32240" y="3556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29200" y="13762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32240" y="228744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2160" y="303372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32240" y="303372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02160" y="378000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32240" y="378000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2160" y="452592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2240" y="452592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2160" y="526896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2240" y="526896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2160" y="60310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32240" y="60310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29200" y="715500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71760" y="115920"/>
            <a:ext cx="45115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86960" y="18064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82120" y="180648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82120" y="317196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1840" y="4108320"/>
            <a:ext cx="0" cy="0"/>
          </a:xfrm>
          <a:prstGeom prst="line">
            <a:avLst/>
          </a:prstGeom>
          <a:ln cap="rnd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101520"/>
            <a:ext cx="7848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074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701800" y="115920"/>
            <a:ext cx="40179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97040" y="189000"/>
            <a:ext cx="42991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82800" y="189000"/>
            <a:ext cx="3892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563400"/>
            <a:ext cx="878544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705636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09720" y="189000"/>
            <a:ext cx="56815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52440"/>
            <a:ext cx="8640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006560"/>
            <a:ext cx="878544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257040"/>
            <a:ext cx="75610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531800"/>
            <a:ext cx="87138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35320" y="189000"/>
            <a:ext cx="4759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46240" y="189000"/>
            <a:ext cx="51958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201600"/>
            <a:ext cx="777744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785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189000"/>
            <a:ext cx="311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88920"/>
            <a:ext cx="64818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569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85760"/>
            <a:ext cx="7274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711360"/>
            <a:ext cx="87138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35120" y="189000"/>
            <a:ext cx="60418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3800" y="189000"/>
            <a:ext cx="53625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779480"/>
            <a:ext cx="8856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2:58:27Z</dcterms:modified>
  <cp:revision>10</cp:revision>
  <dc:subject/>
  <dc:title>Slide 1</dc:title>
</cp:coreProperties>
</file>