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000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560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8396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000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560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835200"/>
            <a:ext cx="7993080" cy="5257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94940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5200" y="836640"/>
            <a:ext cx="8013600" cy="527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9429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246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581120"/>
            <a:ext cx="8496360" cy="458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252360"/>
            <a:ext cx="88567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istogram showing number of episodes of peritonitis per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 Australia over the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/10/03-31/12/0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246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472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189000"/>
            <a:ext cx="712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ate of peritonitis per state for Australia for the period 1/10/03-31/12/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246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31640" y="1125360"/>
            <a:ext cx="15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Black"/>
              </a:rPr>
              <a:t>Figure 6.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1040" y="1536840"/>
            <a:ext cx="7446960" cy="4643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0280"/>
            <a:ext cx="856908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distribution of organisms causing peritoni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 Australia for 20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609480"/>
            <a:ext cx="6769080" cy="574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1640" y="322200"/>
            <a:ext cx="15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Black"/>
              </a:rPr>
              <a:t>Figure 6.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/>
  <dc:description/>
  <dc:language>en-US</dc:language>
  <cp:lastModifiedBy>brian</cp:lastModifiedBy>
  <cp:lastPrinted>2002-10-04T07:48:05Z</cp:lastPrinted>
  <dcterms:modified xsi:type="dcterms:W3CDTF">2006-01-16T05:02:42Z</dcterms:modified>
  <cp:revision>708</cp:revision>
  <dc:subject/>
  <dc:title>Prevalence and Incidence 1992-1999*   End Stage Renal Failure  -  Australia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6732848</vt:r8>
  </property>
  <property fmtid="{D5CDD505-2E9C-101B-9397-08002B2CF9AE}" pid="3" name="_AuthorEmail">
    <vt:lpwstr>stephenm@anzdata.org.au</vt:lpwstr>
  </property>
  <property fmtid="{D5CDD505-2E9C-101B-9397-08002B2CF9AE}" pid="4" name="_AuthorEmailDisplayName">
    <vt:lpwstr>Stephen McDonald</vt:lpwstr>
  </property>
  <property fmtid="{D5CDD505-2E9C-101B-9397-08002B2CF9AE}" pid="5" name="_EmailSubject">
    <vt:lpwstr>ANZDATA Report Powerpoint files for publication</vt:lpwstr>
  </property>
  <property fmtid="{D5CDD505-2E9C-101B-9397-08002B2CF9AE}" pid="6" name="_ReviewingToolsShownOnce">
    <vt:lpwstr/>
  </property>
</Properties>
</file>