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840" y="320760"/>
            <a:ext cx="90219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tock and Flow of Peritoneal Dialysis Patient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Australia   2000 -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4520" y="1187280"/>
            <a:ext cx="77994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00" y="1422360"/>
          <a:ext cx="878688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422360"/>
                    <a:ext cx="87868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218400" y="1336680"/>
            <a:ext cx="286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51760" y="263988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177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9400" y="590544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         2001         2002         2003       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1560" y="1779480"/>
            <a:ext cx="18781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.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. Dialy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880" y="691920"/>
            <a:ext cx="885348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umber (Per Million) Prevalent PD Pat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84360" y="1096560"/>
            <a:ext cx="7704000" cy="11736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0440" y="1814400"/>
          <a:ext cx="805320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814400"/>
                    <a:ext cx="80532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676240" y="1515600"/>
            <a:ext cx="37134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ew Zealand  2000 - 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520" y="596124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Diab   39%         39%         41%          39%         4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8520" y="8240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umber of Prevalent APD/CAPD Pati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3760" y="1343160"/>
            <a:ext cx="7321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0560" y="1609560"/>
          <a:ext cx="806148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609560"/>
                    <a:ext cx="806148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634120" y="1523160"/>
            <a:ext cx="3850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w Zealand  2000 -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8520" y="596124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APD    12%         16%         18%          20%         24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880" y="706320"/>
            <a:ext cx="885348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umber (Per Million) Prevalent APD Pat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39640" y="1096560"/>
            <a:ext cx="7993080" cy="11736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0720" y="1819440"/>
          <a:ext cx="8026560" cy="45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819440"/>
                    <a:ext cx="802656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722320" y="1515600"/>
            <a:ext cx="37134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ew Zealand  2000 - 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520" y="564660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Diab   30%         29%         35%          34%         3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14240" y="966960"/>
          <a:ext cx="76806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66960"/>
                    <a:ext cx="76806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New PD Patients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2280" y="1062000"/>
            <a:ext cx="75675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5160" y="501480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 4          4        15        22        42       61       80       41         4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1000" y="1217520"/>
            <a:ext cx="2454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14240" y="966960"/>
          <a:ext cx="76806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66960"/>
                    <a:ext cx="76806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Dialysing PD Pati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1076400"/>
            <a:ext cx="75675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5520" y="5014800"/>
            <a:ext cx="81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 7         22       42        72      116     187     191       97        8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2960" y="1228680"/>
            <a:ext cx="391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  </a:t>
            </a: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240" y="409320"/>
            <a:ext cx="902340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Related to Age at Entry   2000 - 200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9480" y="1230840"/>
            <a:ext cx="779004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9520" y="1692360"/>
          <a:ext cx="881208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692360"/>
                    <a:ext cx="881208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987720" y="394668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5320" y="376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06280" y="1500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94920" y="22384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0560" y="150012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240" y="409320"/>
            <a:ext cx="902340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Related to Age at Entry   2000 - 200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80" y="1230840"/>
            <a:ext cx="779004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09520" y="1692360"/>
          <a:ext cx="881208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692360"/>
                    <a:ext cx="881208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987720" y="394668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5320" y="376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06280" y="1500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4920" y="22384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00560" y="150012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Zea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560" y="341280"/>
            <a:ext cx="9023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  Related to Race</a:t>
            </a: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1295280"/>
            <a:ext cx="6913440" cy="100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521000"/>
          <a:ext cx="8271000" cy="51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21000"/>
                    <a:ext cx="82710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977240" y="6324480"/>
            <a:ext cx="587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05280" y="3924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92880" y="3738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4640" y="1521000"/>
            <a:ext cx="356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Australia  1995-199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85880" y="4518000"/>
            <a:ext cx="2892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original/Torres 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ori/Pacific Peo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3960" y="3313080"/>
            <a:ext cx="1335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cas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1360" y="4862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1360" y="45752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1800" y="365040"/>
            <a:ext cx="811368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Related to Ra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1295280"/>
            <a:ext cx="6913440" cy="100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74840" y="1492200"/>
          <a:ext cx="8270640" cy="51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492200"/>
                    <a:ext cx="827064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987720" y="3924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5320" y="3738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51280" y="1525680"/>
            <a:ext cx="356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Australia  2000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28920" y="4392720"/>
            <a:ext cx="2892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original/Torres 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ori/Pacific Peo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21880" y="324000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cas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9160" y="4678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39160" y="4362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r>
              <a:rPr b="1" i="1" lang="en-US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800" y="365040"/>
            <a:ext cx="811368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Related to Ra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268280"/>
            <a:ext cx="7392960" cy="100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6120" y="1547640"/>
          <a:ext cx="8271000" cy="51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47640"/>
                    <a:ext cx="827100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8059680" y="6324480"/>
            <a:ext cx="587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87720" y="3924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3738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13080" y="1521000"/>
            <a:ext cx="4441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ew Zealand  1995-199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880" y="348444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cas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73920" y="44766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ri/Pa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840" y="320760"/>
            <a:ext cx="90219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tock and Flow of Peritoneal Dialysis Patient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   2000 -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520" y="1187280"/>
            <a:ext cx="77994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3440" y="1432080"/>
          <a:ext cx="871704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432080"/>
                    <a:ext cx="871704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246840" y="1365120"/>
            <a:ext cx="286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66000" y="282096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74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3120" y="1893960"/>
            <a:ext cx="18777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.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. Dialy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9400" y="580068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         2001         2002         2003       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1800" y="365040"/>
            <a:ext cx="811368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First PD Treatment to First Peritoniti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 Related to Ra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295280"/>
            <a:ext cx="7392960" cy="100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1040" y="1536840"/>
          <a:ext cx="8271000" cy="51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536840"/>
                    <a:ext cx="82710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8059680" y="6324480"/>
            <a:ext cx="587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87720" y="3924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5320" y="3738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13080" y="1521000"/>
            <a:ext cx="4441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New Zealand  2000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7920" y="3078000"/>
            <a:ext cx="1335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cas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75720" y="4071960"/>
            <a:ext cx="17046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ri/Pacif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5-5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-64 y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4240" y="966960"/>
          <a:ext cx="76806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66960"/>
                    <a:ext cx="76806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New PD Patients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1076400"/>
            <a:ext cx="75675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5520" y="5014800"/>
            <a:ext cx="81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15        19       34        77      126     153     201      101       8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60920" y="1260360"/>
            <a:ext cx="149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14240" y="966960"/>
          <a:ext cx="76806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66960"/>
                    <a:ext cx="76806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Dialysing PD Patients 31-Dec-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1104840"/>
            <a:ext cx="75675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5520" y="5014800"/>
            <a:ext cx="818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24        29       75      179      267     370     508      309      17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60920" y="1274760"/>
            <a:ext cx="149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49160" y="990720"/>
          <a:ext cx="823752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990720"/>
                    <a:ext cx="82375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00" y="79524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PD Patients (%) of all Prevalent Di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16000" y="1343160"/>
            <a:ext cx="712800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5960" y="1546200"/>
            <a:ext cx="3325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Australia</a:t>
            </a: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620640"/>
            <a:ext cx="885348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umber (Per Million) Prevalent PD Pat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4360" y="1096560"/>
            <a:ext cx="7704000" cy="11736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0720" y="1819440"/>
          <a:ext cx="8026560" cy="45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819440"/>
                    <a:ext cx="802656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935080" y="1523160"/>
            <a:ext cx="3251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stralia  2000 -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7120" y="604044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Diab   23%         24%         25%          24%         2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8240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umber of Prevalent APD/CAPD Pati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14480" y="1343160"/>
            <a:ext cx="73213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60" y="1609560"/>
          <a:ext cx="806148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609560"/>
                    <a:ext cx="806148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935080" y="1523160"/>
            <a:ext cx="3251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stralia  2000 -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5760" y="587520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APD   22%         28%          34%         40%          42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0880" y="706320"/>
            <a:ext cx="885348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umber (Per Million) Prevalent APD Pat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9640" y="1096560"/>
            <a:ext cx="7932960" cy="117360"/>
          </a:xfrm>
          <a:custGeom>
            <a:avLst/>
            <a:gdLst/>
            <a:ahLst/>
            <a:rect l="l" t="t" r="r" b="b"/>
            <a:pathLst>
              <a:path w="6275" h="1">
                <a:moveTo>
                  <a:pt x="0" y="0"/>
                </a:moveTo>
                <a:lnTo>
                  <a:pt x="62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0720" y="1819440"/>
          <a:ext cx="8026560" cy="45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819440"/>
                    <a:ext cx="802656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898360" y="1566000"/>
            <a:ext cx="3251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stralia  2000 -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960" y="5818320"/>
            <a:ext cx="7815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% Diab   20%         20%         22%          22%         23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49160" y="1143000"/>
          <a:ext cx="823752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143000"/>
                    <a:ext cx="82375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8240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PD Patients (%) of all Prevalent Dialys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14480" y="1343160"/>
            <a:ext cx="7321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51840" y="1542960"/>
            <a:ext cx="391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  </a:t>
            </a: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/>
  <dc:description/>
  <dc:language>en-US</dc:language>
  <cp:lastModifiedBy>brian</cp:lastModifiedBy>
  <cp:lastPrinted>2002-10-04T07:48:05Z</cp:lastPrinted>
  <dcterms:modified xsi:type="dcterms:W3CDTF">2006-01-13T04:29:18Z</dcterms:modified>
  <cp:revision>702</cp:revision>
  <dc:subject/>
  <dc:title>Prevalence and Incidence 1992-1999*   End Stage Renal Failure  -  Australia  </dc:title>
</cp:coreProperties>
</file>