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587-2BE8-4309-92AF-4A63C887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E4D-F340-4C70-A24B-AC4148E3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C12-4A53-4B72-932C-3B4442E7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DC9-1920-494B-8DE1-A155EA14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BAF-DA6B-4FB7-B838-12CDE3BB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144-536A-4ABF-9A00-C75374E0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478-9B5F-4BE4-A317-CFDD5509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8D7-69CC-410E-AC33-A9BA3CD6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67F-FFB9-4A94-B9CE-A49B2979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4BD-E744-4893-BB8D-1D89E52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32D-C466-4283-91F4-ACD55E32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8A6B-E3F5-4301-93EB-AE28496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5615-B5D9-4D73-9754-36CB27EFA3B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-4892760" y="-11899800"/>
          <a:ext cx="3184560" cy="3813120"/>
        </p:xfrm>
        <a:graphic>
          <a:graphicData uri="http://schemas.openxmlformats.org/drawingml/2006/table">
            <a:tbl>
              <a:tblPr/>
              <a:tblGrid>
                <a:gridCol w="932040"/>
                <a:gridCol w="465120"/>
                <a:gridCol w="458640"/>
                <a:gridCol w="542880"/>
                <a:gridCol w="376200"/>
                <a:gridCol w="409680"/>
              </a:tblGrid>
              <a:tr h="2462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portion (%) Peritoneal Dialysis of 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ome Patients   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enslan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South W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cto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man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th Austral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thern Terri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stern Austral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206280"/>
            <a:ext cx="6624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28880" y="189000"/>
            <a:ext cx="54338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54240" y="189000"/>
            <a:ext cx="50277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541520"/>
            <a:ext cx="864216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97160" y="274680"/>
            <a:ext cx="480384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77880" y="0"/>
            <a:ext cx="59007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87400" y="115920"/>
            <a:ext cx="55911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541440"/>
            <a:ext cx="878544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501480"/>
            <a:ext cx="878544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60480" y="189000"/>
            <a:ext cx="56390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89080" y="189000"/>
            <a:ext cx="5165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4:30:10Z</dcterms:modified>
  <cp:revision>12</cp:revision>
  <dc:subject/>
  <dc:title>Slide 1</dc:title>
</cp:coreProperties>
</file>