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84E-F12A-428C-A048-40F10591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C30-479E-467E-8EFC-3631F6F3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EA4-CC79-45A7-B869-F7D8EA84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507-2919-4D5B-8D3D-FADF10B4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F7A-4410-431E-9FBE-EB97490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A69-539B-470F-AD26-C3763B87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2D6-EC3A-40E3-9919-D80E9A75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FC2-0D73-4BFE-91B0-84896EEC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B81-2AE2-4DAD-BA0A-9FDE4B8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FA9-3864-4E2F-B2CE-D5F349D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13C-D9AA-46C5-9A29-DA93583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266-0B35-4051-9307-A3DB69B9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0103-5F59-462A-A59A-0406DB30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311120"/>
            <a:ext cx="878544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996840"/>
            <a:ext cx="878544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785440" cy="39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257480"/>
            <a:ext cx="8785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3:03:13Z</dcterms:modified>
  <cp:revision>12</cp:revision>
  <dc:subject/>
  <dc:title>Slide 1</dc:title>
</cp:coreProperties>
</file>