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7D24-D856-4137-A270-8BDF1167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2FC5-4F1C-4410-9CE9-E9BCBB0F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DD24-7C84-441E-9C40-18A6D7A6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74FA-88B2-4F47-9951-EAD65555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D344-95D3-4B78-BFF0-DFB96E6D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B5F-F70D-487A-888D-0A77385D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11F8-1C67-461F-BFEF-C855EFC0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841-1AA7-44F6-8A71-FF64496E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3459-976E-4E3E-A49A-EEBF819C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6C73-F2E7-478B-AF43-446BD01C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7780-E940-41FF-8182-FEFFC784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422-30F7-4FA9-9C2F-3A37D172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14BB-5023-4D3F-8996-8AD600CEB83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237440" y="6553080"/>
            <a:ext cx="128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80808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715240" y="6454800"/>
            <a:ext cx="428400" cy="324000"/>
            <a:chOff x="8715240" y="6454800"/>
            <a:chExt cx="428400" cy="324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871524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-5259240" y="-11925360"/>
          <a:ext cx="3909960" cy="18097560"/>
        </p:xfrm>
        <a:graphic>
          <a:graphicData uri="http://schemas.openxmlformats.org/drawingml/2006/table">
            <a:tbl>
              <a:tblPr/>
              <a:tblGrid>
                <a:gridCol w="297000"/>
                <a:gridCol w="216000"/>
                <a:gridCol w="216000"/>
                <a:gridCol w="264960"/>
                <a:gridCol w="234720"/>
                <a:gridCol w="234360"/>
                <a:gridCol w="234360"/>
                <a:gridCol w="541800"/>
                <a:gridCol w="216000"/>
                <a:gridCol w="216000"/>
                <a:gridCol w="249480"/>
                <a:gridCol w="239400"/>
                <a:gridCol w="239040"/>
                <a:gridCol w="510840"/>
              </a:tblGrid>
              <a:tr h="246240">
                <a:tc gridSpan="1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8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2800">
                <a:tc gridSpan="1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umber of Renal Transplant Ope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Live Donors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ea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n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r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t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t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n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r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t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e1e1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6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(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(0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 (3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 (5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 (0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 (2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 (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7 (0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 (2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1 (0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 (0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2 (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 (0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 (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 (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 (2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 (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 (7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2 (0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3 (6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 (3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4 (7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 (2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8 (10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 (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6 (16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 (4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4 (17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 (1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3 (14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 (16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9 (36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 (18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 (35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 (10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9 (53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 (8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7 (48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 (1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5 (48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 (16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5 (36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 (6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8 (32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 (13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2 (40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 (20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6 (46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 (8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1 (48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 (12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3 (59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 (23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0 (78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 (13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7 (70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5 (17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9 (66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4 (20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0 (103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 (20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2 (94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 (24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5 (115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6 (26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5 (147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2 (3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8 (16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 (3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5 (169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2 (42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1 (18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 (31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1 (213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 (43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4 (230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7 (48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3 (218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 (44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9 (243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 (48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38440" y="189000"/>
            <a:ext cx="41608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49560" y="189000"/>
            <a:ext cx="5159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-10409400" y="-10310760"/>
          <a:ext cx="4032360" cy="4110120"/>
        </p:xfrm>
        <a:graphic>
          <a:graphicData uri="http://schemas.openxmlformats.org/drawingml/2006/table">
            <a:tbl>
              <a:tblPr/>
              <a:tblGrid>
                <a:gridCol w="431640"/>
                <a:gridCol w="1224000"/>
                <a:gridCol w="468360"/>
                <a:gridCol w="468360"/>
                <a:gridCol w="503280"/>
                <a:gridCol w="468360"/>
                <a:gridCol w="468360"/>
              </a:tblGrid>
              <a:tr h="32760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8.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iming of Live Donor Transpla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Primary Grafts in Relation 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ate of Dialysis Start by Year of Transpl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-dialys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 (22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 (22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 (26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(25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 (23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1 month post dialys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 (7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(4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(2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(2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(4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-11.9 months post dialys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 (31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 (35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 (32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 (3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2 (28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=12 months post dialys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 (4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 (4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 (39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4 (42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 (45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Z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-dialys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 (5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(26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 (27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 (22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(21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1 month post dialys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(3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(4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-11.9 months post dialys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 (32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 (43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 (27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(38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 (25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=12 months post dialysi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(18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 (28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 (46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 (4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 (50%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353880"/>
            <a:ext cx="885672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71600" y="189000"/>
            <a:ext cx="48387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03280" y="246240"/>
            <a:ext cx="662472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419040"/>
            <a:ext cx="885672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1035000"/>
            <a:ext cx="864216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274680"/>
            <a:ext cx="784872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336600"/>
            <a:ext cx="864216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16000" y="171360"/>
            <a:ext cx="6985080" cy="61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171360"/>
            <a:ext cx="7128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-5330880" y="-13117680"/>
          <a:ext cx="4056120" cy="7737480"/>
        </p:xfrm>
        <a:graphic>
          <a:graphicData uri="http://schemas.openxmlformats.org/drawingml/2006/table">
            <a:tbl>
              <a:tblPr/>
              <a:tblGrid>
                <a:gridCol w="1952640"/>
                <a:gridCol w="387360"/>
                <a:gridCol w="392040"/>
                <a:gridCol w="444600"/>
                <a:gridCol w="358560"/>
                <a:gridCol w="520920"/>
              </a:tblGrid>
              <a:tr h="315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gure 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9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ock and Flow of Haemodialysis Pat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000 -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3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7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8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7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new to H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 Dialysis Treatme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Dialysis (PD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iled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at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ver Transplant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ous Transpla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manent Transfers Out (&g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porary Transfers (&lt;12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hs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tients Dialysing (HD) at Home 31 Decemb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all Home Dialysis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8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4360" y="247680"/>
            <a:ext cx="799128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04:49:16Z</dcterms:created>
  <dc:creator>Anzdata</dc:creator>
  <dc:description/>
  <dc:language>en-US</dc:language>
  <cp:lastModifiedBy>brian</cp:lastModifiedBy>
  <dcterms:modified xsi:type="dcterms:W3CDTF">2006-01-13T04:57:07Z</dcterms:modified>
  <cp:revision>17</cp:revision>
  <dc:subject/>
  <dc:title>Slide 1</dc:title>
</cp:coreProperties>
</file>