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55F3-E5F5-47C2-918D-FFC1D3C4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F204-45A5-4090-874F-CEB777D5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926F-303C-4611-9DE3-7B2D5279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D110-813E-478B-B8DC-C4FDD4CE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FF59-3BD1-49B7-8323-557CA42E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BB99-799C-4AF2-BBB9-3B33992B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69B8-6323-44CA-8C95-704A308B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C9AC-53EB-4799-9E8D-3F5454D7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6DE1-F751-461E-91D3-260FAB69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D117-5289-4DEB-89E6-8256318E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466D-3A74-4D86-9257-69CB227A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85B1-785E-4D58-9B0A-F039422E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992F-2157-44C1-9AA7-D19C84557F1F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237440" y="6553080"/>
            <a:ext cx="128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80808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715240" y="6454800"/>
            <a:ext cx="428400" cy="324000"/>
            <a:chOff x="8715240" y="6454800"/>
            <a:chExt cx="428400" cy="324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68560" y="189000"/>
            <a:ext cx="52084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225360"/>
            <a:ext cx="720108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833400"/>
            <a:ext cx="87854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80" y="1057320"/>
            <a:ext cx="878544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81200" y="189000"/>
            <a:ext cx="594504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84360" y="333360"/>
            <a:ext cx="47944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5520" y="333360"/>
            <a:ext cx="50086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447840"/>
            <a:ext cx="8713800" cy="55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247680"/>
            <a:ext cx="727380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55640" y="223920"/>
            <a:ext cx="792000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965160"/>
            <a:ext cx="871380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222120"/>
            <a:ext cx="8569080" cy="60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04:49:16Z</dcterms:created>
  <dc:creator>Anzdata</dc:creator>
  <dc:description/>
  <dc:language>en-US</dc:language>
  <cp:lastModifiedBy>brian</cp:lastModifiedBy>
  <dcterms:modified xsi:type="dcterms:W3CDTF">2006-01-13T04:56:43Z</dcterms:modified>
  <cp:revision>17</cp:revision>
  <dc:subject/>
  <dc:title>Slide 1</dc:title>
</cp:coreProperties>
</file>