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34400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28200" y="6454800"/>
            <a:ext cx="380880" cy="324000"/>
            <a:chOff x="8728200" y="6454800"/>
            <a:chExt cx="38088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28200" y="6454800"/>
              <a:ext cx="380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28200" y="6454800"/>
              <a:ext cx="3808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62040" y="1820880"/>
          <a:ext cx="778680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820880"/>
                    <a:ext cx="778680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268360" y="738360"/>
            <a:ext cx="469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Cause of Donor De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ustralia  1989 -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031840" y="1752480"/>
            <a:ext cx="516276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7600" y="5349960"/>
            <a:ext cx="13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=317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4120" y="1528920"/>
          <a:ext cx="778644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1528920"/>
                    <a:ext cx="778644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908000" y="752400"/>
            <a:ext cx="545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Cause of Donor De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ew Zealand  1993 -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31840" y="1752480"/>
            <a:ext cx="516276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0" y="5160960"/>
            <a:ext cx="114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=46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97360" y="1052640"/>
            <a:ext cx="3087720" cy="5394240"/>
          </a:xfrm>
          <a:prstGeom prst="rect">
            <a:avLst/>
          </a:prstGeom>
          <a:solidFill>
            <a:srgbClr val="f5ecfa"/>
          </a:solidFill>
          <a:ln w="316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otal Donors 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No request for kidn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donation   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Request for donation  3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Consent given  37 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Kidneys not retrieved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Kidneys retrieved  6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Kidney not transplanted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Kidneys Transplanted  6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(58 Recipients Transpla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ouble adult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1052640"/>
            <a:ext cx="3240000" cy="5394240"/>
          </a:xfrm>
          <a:prstGeom prst="rect">
            <a:avLst/>
          </a:prstGeom>
          <a:solidFill>
            <a:srgbClr val="f5ecfa"/>
          </a:solidFill>
          <a:ln w="316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otal Donors  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No request for kidn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700" spc="-1" strike="noStrike">
                <a:solidFill>
                  <a:srgbClr val="000000"/>
                </a:solidFill>
                <a:latin typeface="Times New Roman"/>
              </a:rPr>
              <a:t>donation   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Request for donation  2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o consent given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Consent given  213 Donors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Kidneys not retrieved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Kidneys retrieved  4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Kidneys not transplanted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700" spc="-1" strike="noStrike">
                <a:solidFill>
                  <a:srgbClr val="000000"/>
                </a:solidFill>
                <a:latin typeface="Times New Roman"/>
              </a:rPr>
              <a:t>Kidneys Transplanted  4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4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(405 Recipients Transplante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Kidneys en blo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Double adult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000" y="3576600"/>
            <a:ext cx="230040" cy="733320"/>
            <a:chOff x="1476000" y="3576600"/>
            <a:chExt cx="230040" cy="733320"/>
          </a:xfrm>
        </p:grpSpPr>
        <p:sp>
          <p:nvSpPr>
            <p:cNvPr id="55" name=""/>
            <p:cNvSpPr/>
            <p:nvPr/>
          </p:nvSpPr>
          <p:spPr>
            <a:xfrm flipH="1" flipV="1">
              <a:off x="1476000" y="3576600"/>
              <a:ext cx="23004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6360" y="3576600"/>
              <a:ext cx="0" cy="73332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477440" y="4751280"/>
            <a:ext cx="203400" cy="838080"/>
            <a:chOff x="1477440" y="4751280"/>
            <a:chExt cx="203400" cy="838080"/>
          </a:xfrm>
        </p:grpSpPr>
        <p:sp>
          <p:nvSpPr>
            <p:cNvPr id="58" name=""/>
            <p:cNvSpPr/>
            <p:nvPr/>
          </p:nvSpPr>
          <p:spPr>
            <a:xfrm flipH="1" flipV="1">
              <a:off x="1477440" y="4751280"/>
              <a:ext cx="20340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7800" y="4757400"/>
              <a:ext cx="0" cy="8319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67000" y="3583080"/>
            <a:ext cx="233280" cy="745920"/>
            <a:chOff x="5067000" y="3583080"/>
            <a:chExt cx="233280" cy="745920"/>
          </a:xfrm>
        </p:grpSpPr>
        <p:sp>
          <p:nvSpPr>
            <p:cNvPr id="61" name=""/>
            <p:cNvSpPr/>
            <p:nvPr/>
          </p:nvSpPr>
          <p:spPr>
            <a:xfrm flipH="1" flipV="1">
              <a:off x="5068440" y="3583080"/>
              <a:ext cx="23184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067000" y="3583080"/>
              <a:ext cx="1080" cy="74592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056200" y="4764240"/>
            <a:ext cx="203040" cy="838080"/>
            <a:chOff x="5056200" y="4764240"/>
            <a:chExt cx="203040" cy="838080"/>
          </a:xfrm>
        </p:grpSpPr>
        <p:sp>
          <p:nvSpPr>
            <p:cNvPr id="64" name=""/>
            <p:cNvSpPr/>
            <p:nvPr/>
          </p:nvSpPr>
          <p:spPr>
            <a:xfrm flipH="1" flipV="1">
              <a:off x="5056200" y="4764240"/>
              <a:ext cx="20304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6200" y="4764240"/>
              <a:ext cx="0" cy="8380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476360" y="1417320"/>
            <a:ext cx="203040" cy="1808640"/>
            <a:chOff x="1476360" y="1417320"/>
            <a:chExt cx="203040" cy="1808640"/>
          </a:xfrm>
        </p:grpSpPr>
        <p:grpSp>
          <p:nvGrpSpPr>
            <p:cNvPr id="67" name=""/>
            <p:cNvGrpSpPr/>
            <p:nvPr/>
          </p:nvGrpSpPr>
          <p:grpSpPr>
            <a:xfrm>
              <a:off x="1476360" y="1417320"/>
              <a:ext cx="203040" cy="665640"/>
              <a:chOff x="1476360" y="1417320"/>
              <a:chExt cx="203040" cy="665640"/>
            </a:xfrm>
          </p:grpSpPr>
          <p:sp>
            <p:nvSpPr>
              <p:cNvPr id="68" name=""/>
              <p:cNvSpPr/>
              <p:nvPr/>
            </p:nvSpPr>
            <p:spPr>
              <a:xfrm flipH="1" flipV="1">
                <a:off x="1476360" y="1417320"/>
                <a:ext cx="203040" cy="304920"/>
              </a:xfrm>
              <a:prstGeom prst="line">
                <a:avLst/>
              </a:prstGeom>
              <a:ln w="19080">
                <a:solidFill>
                  <a:srgbClr val="cc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76360" y="1417680"/>
                <a:ext cx="0" cy="665280"/>
              </a:xfrm>
              <a:prstGeom prst="line">
                <a:avLst/>
              </a:prstGeom>
              <a:ln w="1908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flipV="1">
              <a:off x="1476360" y="2560320"/>
              <a:ext cx="203040" cy="30492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76360" y="2560680"/>
              <a:ext cx="0" cy="6652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067360" y="1413000"/>
            <a:ext cx="203040" cy="1807560"/>
            <a:chOff x="5067360" y="1413000"/>
            <a:chExt cx="203040" cy="1807560"/>
          </a:xfrm>
        </p:grpSpPr>
        <p:grpSp>
          <p:nvGrpSpPr>
            <p:cNvPr id="73" name=""/>
            <p:cNvGrpSpPr/>
            <p:nvPr/>
          </p:nvGrpSpPr>
          <p:grpSpPr>
            <a:xfrm>
              <a:off x="5067360" y="1413000"/>
              <a:ext cx="203040" cy="664920"/>
              <a:chOff x="5067360" y="1413000"/>
              <a:chExt cx="203040" cy="664920"/>
            </a:xfrm>
          </p:grpSpPr>
          <p:sp>
            <p:nvSpPr>
              <p:cNvPr id="74" name=""/>
              <p:cNvSpPr/>
              <p:nvPr/>
            </p:nvSpPr>
            <p:spPr>
              <a:xfrm flipH="1" flipV="1">
                <a:off x="5067360" y="1413000"/>
                <a:ext cx="203040" cy="304560"/>
              </a:xfrm>
              <a:prstGeom prst="line">
                <a:avLst/>
              </a:prstGeom>
              <a:ln w="19080">
                <a:solidFill>
                  <a:srgbClr val="cc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67360" y="1413000"/>
                <a:ext cx="0" cy="664920"/>
              </a:xfrm>
              <a:prstGeom prst="line">
                <a:avLst/>
              </a:prstGeom>
              <a:ln w="1908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 flipV="1">
              <a:off x="5067360" y="2555640"/>
              <a:ext cx="20304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67360" y="2555640"/>
              <a:ext cx="0" cy="66492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447920" y="476280"/>
            <a:ext cx="2476440" cy="482400"/>
          </a:xfrm>
          <a:prstGeom prst="rect">
            <a:avLst/>
          </a:prstGeom>
          <a:solidFill>
            <a:srgbClr val="cecece"/>
          </a:solidFill>
          <a:ln w="316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19560" y="476280"/>
            <a:ext cx="2476800" cy="482400"/>
          </a:xfrm>
          <a:prstGeom prst="rect">
            <a:avLst/>
          </a:prstGeom>
          <a:solidFill>
            <a:srgbClr val="cecece"/>
          </a:solidFill>
          <a:ln w="316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8960" y="44280"/>
            <a:ext cx="601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 Black"/>
              </a:rPr>
              <a:t>Outcome of Request for Kidney Donation 20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3-03-11T01:43:57Z</cp:lastPrinted>
  <dcterms:modified xsi:type="dcterms:W3CDTF">2006-01-13T03:20:11Z</dcterms:modified>
  <cp:revision>1467</cp:revision>
  <dc:subject/>
  <dc:title>Excell</dc:title>
</cp:coreProperties>
</file>