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32B-F478-4F8A-BF8B-4672BCB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59B-DAEF-4D64-8E2D-2A21780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0B0-4AD9-4175-AD10-554E454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465-1CFE-4334-A24F-B7189150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7BA-CE2A-47FD-925A-179B54A1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5AF-02C1-424F-8307-A508165C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E9B-BCC8-42A5-A1EC-C4D3149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245-A8EA-4C21-9AD2-D7070207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ED5-7E83-4C48-A611-A0CA1054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344-4D64-4E5F-A858-F91D311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4D7-1DD9-4159-B867-ED9D4D7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D81-96DA-43A5-AAE7-AB0B308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8EE-AAB5-4935-B398-234A56AE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30040"/>
            <a:ext cx="87138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912960"/>
            <a:ext cx="87854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06480"/>
            <a:ext cx="8785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114560"/>
            <a:ext cx="885672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290520"/>
            <a:ext cx="74167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77920" y="260280"/>
            <a:ext cx="52531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276200"/>
            <a:ext cx="87854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511280"/>
            <a:ext cx="8713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467000"/>
            <a:ext cx="86421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795320"/>
            <a:ext cx="87138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3:21:44Z</dcterms:modified>
  <cp:revision>16</cp:revision>
  <dc:subject/>
  <dc:title>Slide 1</dc:title>
</cp:coreProperties>
</file>