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ABBC2-2AF8-4294-BB0C-F0C4BEB98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0AA97-5C68-400C-91AB-F00599016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BE6EF-0AE5-4400-BDCC-AA3F54B9C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9E359-9A7D-44D5-80EE-8D8081A8C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4B15A-2727-4BF1-A079-F9608CAC0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F73B5-0DAD-485A-B180-29E894FD4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50B95-5EEE-4298-ABDE-676B8F7A8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D3D32-1148-4F27-BD07-556B7008D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46221-3E4A-4EF1-8AE8-34A38C09F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224CA-CC14-4996-B622-73BA3148F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E88FD-321F-4403-B2BB-65F982036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9CA8E-541C-4A46-A01D-0D346BA52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307AB-1A26-45A7-8E89-616AA63EB30B}" type="slidenum">
              <a:rPr b="0" lang="en-A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237440" y="6553080"/>
            <a:ext cx="1282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080808"/>
                </a:solidFill>
                <a:latin typeface="Arial"/>
              </a:rPr>
              <a:t>© ANZDATA Regist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715240" y="6454800"/>
            <a:ext cx="428400" cy="324000"/>
            <a:chOff x="8715240" y="6454800"/>
            <a:chExt cx="428400" cy="324000"/>
          </a:xfrm>
        </p:grpSpPr>
        <p:pic>
          <p:nvPicPr>
            <p:cNvPr id="7" name="" descr=""/>
            <p:cNvPicPr/>
            <p:nvPr/>
          </p:nvPicPr>
          <p:blipFill>
            <a:blip r:embed="rId2"/>
            <a:stretch/>
          </p:blipFill>
          <p:spPr>
            <a:xfrm>
              <a:off x="8715240" y="6454800"/>
              <a:ext cx="428400" cy="3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" name="" descr=""/>
            <p:cNvPicPr/>
            <p:nvPr/>
          </p:nvPicPr>
          <p:blipFill>
            <a:blip r:embed="rId3"/>
            <a:stretch/>
          </p:blipFill>
          <p:spPr>
            <a:xfrm>
              <a:off x="8715240" y="6454800"/>
              <a:ext cx="428400" cy="3240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-5330880" y="-13117680"/>
          <a:ext cx="4056120" cy="7737480"/>
        </p:xfrm>
        <a:graphic>
          <a:graphicData uri="http://schemas.openxmlformats.org/drawingml/2006/table">
            <a:tbl>
              <a:tblPr/>
              <a:tblGrid>
                <a:gridCol w="1952640"/>
                <a:gridCol w="387360"/>
                <a:gridCol w="392040"/>
                <a:gridCol w="444600"/>
                <a:gridCol w="358560"/>
                <a:gridCol w="520920"/>
              </a:tblGrid>
              <a:tr h="315000">
                <a:tc gridSpan="6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Figure 5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8960">
                <a:tc gridSpan="6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Stock and Flow of Haemodialysis Pati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000 - 20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154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ustral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tients new to H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2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0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6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9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9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irst Dialysis Treatmen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8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8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4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3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2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evious Dialysis (PD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ailed Transplan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ransplante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8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9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7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3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ath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8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1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3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1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ever Transplante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1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0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5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5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5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evious Transplan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ermanent Transfers Out (&gt;12 </a:t>
                      </a: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nths</a:t>
                      </a: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5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mporary Transfers (12 </a:t>
                      </a: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nths</a:t>
                      </a: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tients Dialysing (HD) at 31 December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67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04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47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88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17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tients Dialysing (HD) at Home 31 December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4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8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0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% of all Home Dialysis Patient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ew Zeala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tients new to H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5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4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4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irst Dialysis Treatmen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9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9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evious Dialysis (PD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ailed Transplan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ransplante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ath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ever Transplante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evious Transplan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ermanent Transfers Out (&gt;12 </a:t>
                      </a: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nths</a:t>
                      </a: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mporary Transfers (&lt;12 </a:t>
                      </a: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nths</a:t>
                      </a: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tients Dialysing (HD) at 31 December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5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5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3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4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2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tients Dialysing (HD) at Home 31 December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0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% of all Home Dialysis Patient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4800">
                <a:tc gridSpan="6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679400" y="115920"/>
            <a:ext cx="5943600" cy="63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2T04:49:16Z</dcterms:created>
  <dc:creator>Anzdata</dc:creator>
  <dc:description/>
  <dc:language>en-US</dc:language>
  <cp:lastModifiedBy>brian</cp:lastModifiedBy>
  <dcterms:modified xsi:type="dcterms:W3CDTF">2006-01-13T04:33:15Z</dcterms:modified>
  <cp:revision>19</cp:revision>
  <dc:subject/>
  <dc:title>Slide 1</dc:title>
</cp:coreProperties>
</file>