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79F-FB77-4795-A153-6EB85C5E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62E-A249-4155-A9D9-F0DA3EBC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205-3011-4C3B-B966-40CD84E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E49-00F6-4FD7-A203-E7D28D54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784-A52E-4D97-9659-F3D7CC4B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34E-7276-4E7E-A188-DAB46CE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187-5E9C-475A-88E7-539AE0D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204-8B5E-4E9A-AA23-7E359F2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D3F-37F5-46C8-B105-246EDD1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5CC-896B-44E3-864B-E2A8A9C2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632-1A7B-430C-8F67-CF81149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B87-78B7-4E79-9734-189EB22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D0EB-03BE-471B-9A2D-F9DBCAB82D4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8680" y="260280"/>
            <a:ext cx="51469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-10228320" y="-12944520"/>
          <a:ext cx="5751720" cy="5991120"/>
        </p:xfrm>
        <a:graphic>
          <a:graphicData uri="http://schemas.openxmlformats.org/drawingml/2006/table">
            <a:tbl>
              <a:tblPr/>
              <a:tblGrid>
                <a:gridCol w="1835640"/>
                <a:gridCol w="503280"/>
                <a:gridCol w="395280"/>
                <a:gridCol w="610920"/>
                <a:gridCol w="827280"/>
                <a:gridCol w="755640"/>
                <a:gridCol w="395280"/>
                <a:gridCol w="428400"/>
              </a:tblGrid>
              <a:tr h="3135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s and overall agreement of cancers recorded by ANZDATA and by CCR. Sensitivity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ficity, positive and negative predictive values of ANZDATA cancer records are calculated u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R as the reference standard. Data are reported for all records, and after excluding those cancer records with diagnosis dates within 30 days of starting dialysis or of transplant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erat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Z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ree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[95% CI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fic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[95% CI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V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PV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persons with c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4 [74.3, 80.3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9 [97.6, 98.2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3 [77.3, 83.1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1 [97.8, 98.4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canc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7 [72.7, 78.5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4 [97.1, 97.7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0 [76.1, 81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7 [97.3, 98.0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persons with cancer on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6 [72.7, 80.2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6 [98.3, 98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 [77.2, 84.5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8 [98.6, 99.0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cancers of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3 [71.6, 78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4 [98.1, 98.6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2 [76.5, 83.6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6 [98.3, 98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persons with cancer after transplant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7 [73.2, 83.4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2 [96.4, 97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5 [73.0, 83.3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2 [96.4, 97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cancers after transplant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5 [73.0, 83.3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2 [96.4, 97.8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day exclus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0 [73.8, 83.6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 [95.5, 97.1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62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V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sitive predictive value; the probability that a patient has the disease (i.e. cancer, as recorded by CCR) when restricted to tho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who test positive (i.e. have a cancer as reported by ANZDATA)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PV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negative predictive value; the probability that a patient will not have the disease (i.e. cancer, as recorded by CCR) when restricted</a:t>
                      </a:r>
                      <a:br>
                        <a:rPr sz="600"/>
                      </a:b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 all patients who test negative (i.e. not having a cancer as defined by ANZDATA)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228600"/>
            <a:ext cx="8785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9400" y="189000"/>
            <a:ext cx="6016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262080"/>
            <a:ext cx="633744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66680"/>
            <a:ext cx="655344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63720" y="189000"/>
            <a:ext cx="5572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33:20Z</dcterms:modified>
  <cp:revision>19</cp:revision>
  <dc:subject/>
  <dc:title>Slide 1</dc:title>
</cp:coreProperties>
</file>