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FEF-6BE4-481B-81B7-C1455628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357-B7F3-44E0-9A34-862BF00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2CA-883D-4FB3-8CD0-8E4DEB40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464-81DF-414C-AF10-9D16F9EF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0D1-9752-439D-A554-927642A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4D9-AA9C-4AC0-8E9B-51AB1C7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F42-A920-4642-8ACD-95945A0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00B-89E7-4C17-A3B2-C65192F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18D-7673-4843-834E-6878D0D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387-C3D4-44F8-9A7D-6D9257D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6BA-7BA6-4E18-A914-6C6F61B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9FB-CCC0-4F54-A578-4F3A675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FFE7-A27D-41FA-B2AB-1EC7F7A8046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78000"/>
            <a:ext cx="87138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292400"/>
            <a:ext cx="87854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279360"/>
            <a:ext cx="82090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93680"/>
            <a:ext cx="8497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281160"/>
            <a:ext cx="7991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351000"/>
            <a:ext cx="82818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774720"/>
            <a:ext cx="87138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34:01Z</dcterms:modified>
  <cp:revision>21</cp:revision>
  <dc:subject/>
  <dc:title>Slide 1</dc:title>
</cp:coreProperties>
</file>