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8DA-7B0B-410F-A3C5-5776A01C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072-B935-44FB-AF22-7DCECB44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B10-A2CC-4889-8C31-3281095D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40CC-519D-4C07-A92D-C495802A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0F0-09CD-47AF-87B2-E5AE8591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28C-701C-4EEC-A567-795FF594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2F3-813E-49E0-88FA-EBD5470E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953-0ECF-490C-B264-94412278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BF4-6F33-41B3-A965-2CD389A0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087-8E06-4F2B-AE23-F1DEDF19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5E9-CD8E-4FDA-8AF1-683885FA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887-8EFA-4E4D-B0D2-98D85915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615A-925C-4B31-98E1-41CEEFD9AAF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80808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-9856800" y="-10936440"/>
          <a:ext cx="4272120" cy="4965840"/>
        </p:xfrm>
        <a:graphic>
          <a:graphicData uri="http://schemas.openxmlformats.org/drawingml/2006/table">
            <a:tbl>
              <a:tblPr/>
              <a:tblGrid>
                <a:gridCol w="1332000"/>
                <a:gridCol w="539640"/>
                <a:gridCol w="600120"/>
                <a:gridCol w="539640"/>
                <a:gridCol w="576360"/>
                <a:gridCol w="684360"/>
              </a:tblGrid>
              <a:tr h="3081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1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uses of End Stage Kidney 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y Age Group    1999  - 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ary Renal Diseas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 Groups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0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-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-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-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lomerulonephrit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 (13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 (16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 (68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milial Glomerulonephrit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9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(91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ux Nephropath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3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(18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(9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 (7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lycystic Kidney Diseas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(43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(43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14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ullary Cystic Diseas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6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1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(31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(5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terior Urethral Valv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(45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1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(25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(2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emolytic Uraemic Syndro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5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5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ypoplasia/Dysplas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 (41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(3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(24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3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abe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tical Necros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(27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18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(27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(27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stitial Nephrit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17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(83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ystinos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(5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(5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ertai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1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(5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(37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scellaneous/Oth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 (3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(26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(11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(33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 (15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 (19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 (19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 (47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312840"/>
            <a:ext cx="698508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081080"/>
            <a:ext cx="87138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452600"/>
            <a:ext cx="8713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1373040"/>
            <a:ext cx="871380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86040" y="260280"/>
            <a:ext cx="55944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85760"/>
            <a:ext cx="828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4:49:16Z</dcterms:created>
  <dc:creator>Anzdata</dc:creator>
  <dc:description/>
  <dc:language>en-US</dc:language>
  <cp:lastModifiedBy>brian</cp:lastModifiedBy>
  <dcterms:modified xsi:type="dcterms:W3CDTF">2006-01-13T04:34:17Z</dcterms:modified>
  <cp:revision>21</cp:revision>
  <dc:subject/>
  <dc:title>Slide 1</dc:title>
</cp:coreProperties>
</file>